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78000" y="1440"/>
            <a:ext cx="162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440" y="8854920"/>
            <a:ext cx="25783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40600" y="8896320"/>
            <a:ext cx="1586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MO/DSIS HAND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27960" y="8520120"/>
            <a:ext cx="803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B6A9F7DB-F381-4248-8083-B9F7A803A9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2120" y="415800"/>
            <a:ext cx="6388200" cy="8450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3760" y="496800"/>
            <a:ext cx="4173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0320" y="549360"/>
            <a:ext cx="4128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0320" y="561960"/>
            <a:ext cx="4125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6600" y="573120"/>
            <a:ext cx="3114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4440" y="879480"/>
            <a:ext cx="3360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84440" y="890640"/>
            <a:ext cx="33573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0760" y="9018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8160" y="4830840"/>
            <a:ext cx="498636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94200"/>
            <a:ext cx="792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80" y="4902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4890960"/>
            <a:ext cx="5546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1960" y="4708440"/>
            <a:ext cx="3978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.S ARMY SOLDIER SUPPORT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11360" y="5214960"/>
            <a:ext cx="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92640" y="5878440"/>
            <a:ext cx="203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92640" y="5886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8200" y="6135840"/>
            <a:ext cx="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3280" y="6373800"/>
            <a:ext cx="364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3280" y="638316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3440" y="6118200"/>
            <a:ext cx="4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93760" y="636588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43200" y="6859440"/>
            <a:ext cx="3211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43200" y="6864480"/>
            <a:ext cx="33084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63320" y="7827840"/>
            <a:ext cx="2419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(For Classroom Purposes Only!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4160" y="5189400"/>
            <a:ext cx="5796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1040" y="5265720"/>
            <a:ext cx="5540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8760" y="5516640"/>
            <a:ext cx="35035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3760" y="8478720"/>
            <a:ext cx="1522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59320" y="7601040"/>
            <a:ext cx="144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1600" y="84517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19400" y="1593720"/>
            <a:ext cx="2425320" cy="2977920"/>
            <a:chOff x="2219400" y="1593720"/>
            <a:chExt cx="2425320" cy="2977920"/>
          </a:xfrm>
        </p:grpSpPr>
        <p:sp>
          <p:nvSpPr>
            <p:cNvPr id="73" name=""/>
            <p:cNvSpPr/>
            <p:nvPr/>
          </p:nvSpPr>
          <p:spPr>
            <a:xfrm>
              <a:off x="2219400" y="1593720"/>
              <a:ext cx="2425320" cy="29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329720" y="3522240"/>
              <a:ext cx="283680" cy="433800"/>
              <a:chOff x="4329720" y="3522240"/>
              <a:chExt cx="283680" cy="433800"/>
            </a:xfrm>
          </p:grpSpPr>
          <p:sp>
            <p:nvSpPr>
              <p:cNvPr id="75" name=""/>
              <p:cNvSpPr/>
              <p:nvPr/>
            </p:nvSpPr>
            <p:spPr>
              <a:xfrm>
                <a:off x="4329720" y="3522240"/>
                <a:ext cx="283680" cy="433800"/>
              </a:xfrm>
              <a:custGeom>
                <a:avLst/>
                <a:gdLst/>
                <a:ahLst/>
                <a:rect l="l" t="t" r="r" b="b"/>
                <a:pathLst>
                  <a:path w="280" h="416">
                    <a:moveTo>
                      <a:pt x="200" y="387"/>
                    </a:moveTo>
                    <a:lnTo>
                      <a:pt x="149" y="416"/>
                    </a:lnTo>
                    <a:lnTo>
                      <a:pt x="163" y="387"/>
                    </a:lnTo>
                    <a:lnTo>
                      <a:pt x="170" y="355"/>
                    </a:lnTo>
                    <a:lnTo>
                      <a:pt x="170" y="314"/>
                    </a:lnTo>
                    <a:lnTo>
                      <a:pt x="163" y="284"/>
                    </a:lnTo>
                    <a:lnTo>
                      <a:pt x="152" y="254"/>
                    </a:lnTo>
                    <a:lnTo>
                      <a:pt x="133" y="227"/>
                    </a:lnTo>
                    <a:lnTo>
                      <a:pt x="110" y="209"/>
                    </a:lnTo>
                    <a:lnTo>
                      <a:pt x="84" y="201"/>
                    </a:lnTo>
                    <a:lnTo>
                      <a:pt x="58" y="201"/>
                    </a:lnTo>
                    <a:lnTo>
                      <a:pt x="33" y="206"/>
                    </a:lnTo>
                    <a:lnTo>
                      <a:pt x="8" y="224"/>
                    </a:lnTo>
                    <a:lnTo>
                      <a:pt x="0" y="233"/>
                    </a:lnTo>
                    <a:lnTo>
                      <a:pt x="0" y="35"/>
                    </a:lnTo>
                    <a:lnTo>
                      <a:pt x="28" y="18"/>
                    </a:lnTo>
                    <a:lnTo>
                      <a:pt x="62" y="7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70" y="23"/>
                    </a:lnTo>
                    <a:lnTo>
                      <a:pt x="200" y="41"/>
                    </a:lnTo>
                    <a:lnTo>
                      <a:pt x="229" y="71"/>
                    </a:lnTo>
                    <a:lnTo>
                      <a:pt x="252" y="110"/>
                    </a:lnTo>
                    <a:lnTo>
                      <a:pt x="266" y="149"/>
                    </a:lnTo>
                    <a:lnTo>
                      <a:pt x="277" y="192"/>
                    </a:lnTo>
                    <a:lnTo>
                      <a:pt x="280" y="238"/>
                    </a:lnTo>
                    <a:lnTo>
                      <a:pt x="275" y="277"/>
                    </a:lnTo>
                    <a:lnTo>
                      <a:pt x="249" y="334"/>
                    </a:lnTo>
                    <a:lnTo>
                      <a:pt x="200" y="38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29720" y="3522240"/>
                <a:ext cx="283680" cy="433800"/>
              </a:xfrm>
              <a:custGeom>
                <a:avLst/>
                <a:gdLst/>
                <a:ahLst/>
                <a:rect l="l" t="t" r="r" b="b"/>
                <a:pathLst>
                  <a:path w="280" h="416">
                    <a:moveTo>
                      <a:pt x="200" y="387"/>
                    </a:moveTo>
                    <a:lnTo>
                      <a:pt x="149" y="416"/>
                    </a:lnTo>
                    <a:lnTo>
                      <a:pt x="163" y="387"/>
                    </a:lnTo>
                    <a:lnTo>
                      <a:pt x="170" y="355"/>
                    </a:lnTo>
                    <a:lnTo>
                      <a:pt x="170" y="314"/>
                    </a:lnTo>
                    <a:lnTo>
                      <a:pt x="163" y="284"/>
                    </a:lnTo>
                    <a:lnTo>
                      <a:pt x="152" y="254"/>
                    </a:lnTo>
                    <a:lnTo>
                      <a:pt x="133" y="227"/>
                    </a:lnTo>
                    <a:lnTo>
                      <a:pt x="110" y="209"/>
                    </a:lnTo>
                    <a:lnTo>
                      <a:pt x="84" y="201"/>
                    </a:lnTo>
                    <a:lnTo>
                      <a:pt x="58" y="201"/>
                    </a:lnTo>
                    <a:lnTo>
                      <a:pt x="33" y="206"/>
                    </a:lnTo>
                    <a:lnTo>
                      <a:pt x="8" y="224"/>
                    </a:lnTo>
                    <a:lnTo>
                      <a:pt x="0" y="233"/>
                    </a:lnTo>
                    <a:lnTo>
                      <a:pt x="0" y="35"/>
                    </a:lnTo>
                    <a:lnTo>
                      <a:pt x="28" y="18"/>
                    </a:lnTo>
                    <a:lnTo>
                      <a:pt x="62" y="7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70" y="23"/>
                    </a:lnTo>
                    <a:lnTo>
                      <a:pt x="200" y="41"/>
                    </a:lnTo>
                    <a:lnTo>
                      <a:pt x="229" y="71"/>
                    </a:lnTo>
                    <a:lnTo>
                      <a:pt x="252" y="110"/>
                    </a:lnTo>
                    <a:lnTo>
                      <a:pt x="266" y="149"/>
                    </a:lnTo>
                    <a:lnTo>
                      <a:pt x="277" y="192"/>
                    </a:lnTo>
                    <a:lnTo>
                      <a:pt x="280" y="238"/>
                    </a:lnTo>
                    <a:lnTo>
                      <a:pt x="275" y="277"/>
                    </a:lnTo>
                    <a:lnTo>
                      <a:pt x="249" y="334"/>
                    </a:lnTo>
                    <a:lnTo>
                      <a:pt x="200" y="38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565360" y="1640880"/>
              <a:ext cx="1764360" cy="2489760"/>
            </a:xfrm>
            <a:custGeom>
              <a:avLst/>
              <a:gdLst/>
              <a:ahLst/>
              <a:rect l="l" t="t" r="r" b="b"/>
              <a:pathLst>
                <a:path w="1732" h="2371">
                  <a:moveTo>
                    <a:pt x="0" y="0"/>
                  </a:moveTo>
                  <a:lnTo>
                    <a:pt x="1732" y="0"/>
                  </a:lnTo>
                  <a:lnTo>
                    <a:pt x="1732" y="2014"/>
                  </a:lnTo>
                  <a:lnTo>
                    <a:pt x="1715" y="2055"/>
                  </a:lnTo>
                  <a:lnTo>
                    <a:pt x="1680" y="2092"/>
                  </a:lnTo>
                  <a:lnTo>
                    <a:pt x="1643" y="2127"/>
                  </a:lnTo>
                  <a:lnTo>
                    <a:pt x="1598" y="2156"/>
                  </a:lnTo>
                  <a:lnTo>
                    <a:pt x="1556" y="2170"/>
                  </a:lnTo>
                  <a:lnTo>
                    <a:pt x="1508" y="2179"/>
                  </a:lnTo>
                  <a:lnTo>
                    <a:pt x="1460" y="2177"/>
                  </a:lnTo>
                  <a:lnTo>
                    <a:pt x="1087" y="2177"/>
                  </a:lnTo>
                  <a:lnTo>
                    <a:pt x="1040" y="2182"/>
                  </a:lnTo>
                  <a:lnTo>
                    <a:pt x="1001" y="2193"/>
                  </a:lnTo>
                  <a:lnTo>
                    <a:pt x="965" y="2218"/>
                  </a:lnTo>
                  <a:lnTo>
                    <a:pt x="930" y="2246"/>
                  </a:lnTo>
                  <a:lnTo>
                    <a:pt x="900" y="2287"/>
                  </a:lnTo>
                  <a:lnTo>
                    <a:pt x="877" y="2330"/>
                  </a:lnTo>
                  <a:lnTo>
                    <a:pt x="865" y="2371"/>
                  </a:lnTo>
                  <a:lnTo>
                    <a:pt x="851" y="2324"/>
                  </a:lnTo>
                  <a:lnTo>
                    <a:pt x="828" y="2280"/>
                  </a:lnTo>
                  <a:lnTo>
                    <a:pt x="800" y="2243"/>
                  </a:lnTo>
                  <a:lnTo>
                    <a:pt x="769" y="2214"/>
                  </a:lnTo>
                  <a:lnTo>
                    <a:pt x="727" y="2191"/>
                  </a:lnTo>
                  <a:lnTo>
                    <a:pt x="685" y="2179"/>
                  </a:lnTo>
                  <a:lnTo>
                    <a:pt x="650" y="2177"/>
                  </a:lnTo>
                  <a:lnTo>
                    <a:pt x="274" y="2177"/>
                  </a:lnTo>
                  <a:lnTo>
                    <a:pt x="271" y="2177"/>
                  </a:lnTo>
                  <a:lnTo>
                    <a:pt x="229" y="2179"/>
                  </a:lnTo>
                  <a:lnTo>
                    <a:pt x="183" y="2174"/>
                  </a:lnTo>
                  <a:lnTo>
                    <a:pt x="136" y="2159"/>
                  </a:lnTo>
                  <a:lnTo>
                    <a:pt x="96" y="2133"/>
                  </a:lnTo>
                  <a:lnTo>
                    <a:pt x="56" y="2095"/>
                  </a:lnTo>
                  <a:lnTo>
                    <a:pt x="28" y="2058"/>
                  </a:lnTo>
                  <a:lnTo>
                    <a:pt x="0" y="20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65360" y="1640880"/>
              <a:ext cx="1776600" cy="2505240"/>
            </a:xfrm>
            <a:custGeom>
              <a:avLst/>
              <a:gdLst/>
              <a:ahLst/>
              <a:rect l="l" t="t" r="r" b="b"/>
              <a:pathLst>
                <a:path w="1743" h="2385">
                  <a:moveTo>
                    <a:pt x="0" y="0"/>
                  </a:moveTo>
                  <a:lnTo>
                    <a:pt x="1743" y="0"/>
                  </a:lnTo>
                  <a:lnTo>
                    <a:pt x="1743" y="2026"/>
                  </a:lnTo>
                  <a:lnTo>
                    <a:pt x="1726" y="2067"/>
                  </a:lnTo>
                  <a:lnTo>
                    <a:pt x="1692" y="2104"/>
                  </a:lnTo>
                  <a:lnTo>
                    <a:pt x="1652" y="2138"/>
                  </a:lnTo>
                  <a:lnTo>
                    <a:pt x="1610" y="2168"/>
                  </a:lnTo>
                  <a:lnTo>
                    <a:pt x="1568" y="2186"/>
                  </a:lnTo>
                  <a:lnTo>
                    <a:pt x="1517" y="2193"/>
                  </a:lnTo>
                  <a:lnTo>
                    <a:pt x="1472" y="2191"/>
                  </a:lnTo>
                  <a:lnTo>
                    <a:pt x="1092" y="2191"/>
                  </a:lnTo>
                  <a:lnTo>
                    <a:pt x="1049" y="2197"/>
                  </a:lnTo>
                  <a:lnTo>
                    <a:pt x="1007" y="2205"/>
                  </a:lnTo>
                  <a:lnTo>
                    <a:pt x="970" y="2232"/>
                  </a:lnTo>
                  <a:lnTo>
                    <a:pt x="937" y="2260"/>
                  </a:lnTo>
                  <a:lnTo>
                    <a:pt x="905" y="2301"/>
                  </a:lnTo>
                  <a:lnTo>
                    <a:pt x="883" y="2344"/>
                  </a:lnTo>
                  <a:lnTo>
                    <a:pt x="872" y="2385"/>
                  </a:lnTo>
                  <a:lnTo>
                    <a:pt x="857" y="2339"/>
                  </a:lnTo>
                  <a:lnTo>
                    <a:pt x="834" y="2296"/>
                  </a:lnTo>
                  <a:lnTo>
                    <a:pt x="806" y="2255"/>
                  </a:lnTo>
                  <a:lnTo>
                    <a:pt x="776" y="2225"/>
                  </a:lnTo>
                  <a:lnTo>
                    <a:pt x="732" y="2205"/>
                  </a:lnTo>
                  <a:lnTo>
                    <a:pt x="690" y="2193"/>
                  </a:lnTo>
                  <a:lnTo>
                    <a:pt x="653" y="2191"/>
                  </a:lnTo>
                  <a:lnTo>
                    <a:pt x="276" y="2191"/>
                  </a:lnTo>
                  <a:lnTo>
                    <a:pt x="271" y="2191"/>
                  </a:lnTo>
                  <a:lnTo>
                    <a:pt x="232" y="2193"/>
                  </a:lnTo>
                  <a:lnTo>
                    <a:pt x="183" y="2188"/>
                  </a:lnTo>
                  <a:lnTo>
                    <a:pt x="136" y="2170"/>
                  </a:lnTo>
                  <a:lnTo>
                    <a:pt x="99" y="2147"/>
                  </a:lnTo>
                  <a:lnTo>
                    <a:pt x="56" y="2110"/>
                  </a:lnTo>
                  <a:lnTo>
                    <a:pt x="28" y="2069"/>
                  </a:lnTo>
                  <a:lnTo>
                    <a:pt x="0" y="202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265120" y="3811680"/>
              <a:ext cx="2345760" cy="740520"/>
              <a:chOff x="2265120" y="3811680"/>
              <a:chExt cx="2345760" cy="740520"/>
            </a:xfrm>
          </p:grpSpPr>
          <p:sp>
            <p:nvSpPr>
              <p:cNvPr id="80" name=""/>
              <p:cNvSpPr/>
              <p:nvPr/>
            </p:nvSpPr>
            <p:spPr>
              <a:xfrm>
                <a:off x="2265120" y="3811680"/>
                <a:ext cx="2345760" cy="740520"/>
              </a:xfrm>
              <a:custGeom>
                <a:avLst/>
                <a:gdLst/>
                <a:ahLst/>
                <a:rect l="l" t="t" r="r" b="b"/>
                <a:pathLst>
                  <a:path w="2301" h="705">
                    <a:moveTo>
                      <a:pt x="2295" y="0"/>
                    </a:moveTo>
                    <a:lnTo>
                      <a:pt x="2276" y="60"/>
                    </a:lnTo>
                    <a:lnTo>
                      <a:pt x="2222" y="110"/>
                    </a:lnTo>
                    <a:lnTo>
                      <a:pt x="2070" y="197"/>
                    </a:lnTo>
                    <a:lnTo>
                      <a:pt x="1965" y="225"/>
                    </a:lnTo>
                    <a:lnTo>
                      <a:pt x="1823" y="272"/>
                    </a:lnTo>
                    <a:lnTo>
                      <a:pt x="1724" y="300"/>
                    </a:lnTo>
                    <a:lnTo>
                      <a:pt x="1605" y="313"/>
                    </a:lnTo>
                    <a:lnTo>
                      <a:pt x="1483" y="339"/>
                    </a:lnTo>
                    <a:lnTo>
                      <a:pt x="1367" y="353"/>
                    </a:lnTo>
                    <a:lnTo>
                      <a:pt x="1237" y="359"/>
                    </a:lnTo>
                    <a:lnTo>
                      <a:pt x="1149" y="382"/>
                    </a:lnTo>
                    <a:lnTo>
                      <a:pt x="1061" y="359"/>
                    </a:lnTo>
                    <a:lnTo>
                      <a:pt x="934" y="353"/>
                    </a:lnTo>
                    <a:lnTo>
                      <a:pt x="821" y="339"/>
                    </a:lnTo>
                    <a:lnTo>
                      <a:pt x="696" y="313"/>
                    </a:lnTo>
                    <a:lnTo>
                      <a:pt x="575" y="300"/>
                    </a:lnTo>
                    <a:lnTo>
                      <a:pt x="470" y="277"/>
                    </a:lnTo>
                    <a:lnTo>
                      <a:pt x="337" y="229"/>
                    </a:lnTo>
                    <a:lnTo>
                      <a:pt x="229" y="185"/>
                    </a:lnTo>
                    <a:lnTo>
                      <a:pt x="80" y="110"/>
                    </a:lnTo>
                    <a:lnTo>
                      <a:pt x="26" y="60"/>
                    </a:lnTo>
                    <a:lnTo>
                      <a:pt x="0" y="0"/>
                    </a:lnTo>
                    <a:lnTo>
                      <a:pt x="5" y="23"/>
                    </a:lnTo>
                    <a:lnTo>
                      <a:pt x="54" y="348"/>
                    </a:lnTo>
                    <a:lnTo>
                      <a:pt x="50" y="325"/>
                    </a:lnTo>
                    <a:lnTo>
                      <a:pt x="73" y="382"/>
                    </a:lnTo>
                    <a:lnTo>
                      <a:pt x="124" y="435"/>
                    </a:lnTo>
                    <a:lnTo>
                      <a:pt x="269" y="522"/>
                    </a:lnTo>
                    <a:lnTo>
                      <a:pt x="374" y="547"/>
                    </a:lnTo>
                    <a:lnTo>
                      <a:pt x="487" y="574"/>
                    </a:lnTo>
                    <a:lnTo>
                      <a:pt x="600" y="602"/>
                    </a:lnTo>
                    <a:lnTo>
                      <a:pt x="713" y="618"/>
                    </a:lnTo>
                    <a:lnTo>
                      <a:pt x="832" y="632"/>
                    </a:lnTo>
                    <a:lnTo>
                      <a:pt x="942" y="643"/>
                    </a:lnTo>
                    <a:lnTo>
                      <a:pt x="1064" y="669"/>
                    </a:lnTo>
                    <a:lnTo>
                      <a:pt x="1149" y="705"/>
                    </a:lnTo>
                    <a:lnTo>
                      <a:pt x="1237" y="669"/>
                    </a:lnTo>
                    <a:lnTo>
                      <a:pt x="1358" y="643"/>
                    </a:lnTo>
                    <a:lnTo>
                      <a:pt x="1472" y="632"/>
                    </a:lnTo>
                    <a:lnTo>
                      <a:pt x="1587" y="618"/>
                    </a:lnTo>
                    <a:lnTo>
                      <a:pt x="1701" y="602"/>
                    </a:lnTo>
                    <a:lnTo>
                      <a:pt x="1811" y="574"/>
                    </a:lnTo>
                    <a:lnTo>
                      <a:pt x="1928" y="547"/>
                    </a:lnTo>
                    <a:lnTo>
                      <a:pt x="2035" y="522"/>
                    </a:lnTo>
                    <a:lnTo>
                      <a:pt x="2180" y="435"/>
                    </a:lnTo>
                    <a:lnTo>
                      <a:pt x="2227" y="382"/>
                    </a:lnTo>
                    <a:lnTo>
                      <a:pt x="2250" y="325"/>
                    </a:lnTo>
                    <a:lnTo>
                      <a:pt x="2241" y="348"/>
                    </a:lnTo>
                    <a:lnTo>
                      <a:pt x="2301" y="23"/>
                    </a:lnTo>
                    <a:lnTo>
                      <a:pt x="229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5120" y="3811680"/>
                <a:ext cx="2345760" cy="740520"/>
              </a:xfrm>
              <a:custGeom>
                <a:avLst/>
                <a:gdLst/>
                <a:ahLst/>
                <a:rect l="l" t="t" r="r" b="b"/>
                <a:pathLst>
                  <a:path w="2301" h="705">
                    <a:moveTo>
                      <a:pt x="2295" y="0"/>
                    </a:moveTo>
                    <a:lnTo>
                      <a:pt x="2276" y="60"/>
                    </a:lnTo>
                    <a:lnTo>
                      <a:pt x="2222" y="110"/>
                    </a:lnTo>
                    <a:lnTo>
                      <a:pt x="2070" y="197"/>
                    </a:lnTo>
                    <a:lnTo>
                      <a:pt x="1965" y="225"/>
                    </a:lnTo>
                    <a:lnTo>
                      <a:pt x="1823" y="272"/>
                    </a:lnTo>
                    <a:lnTo>
                      <a:pt x="1724" y="300"/>
                    </a:lnTo>
                    <a:lnTo>
                      <a:pt x="1605" y="313"/>
                    </a:lnTo>
                    <a:lnTo>
                      <a:pt x="1483" y="339"/>
                    </a:lnTo>
                    <a:lnTo>
                      <a:pt x="1367" y="353"/>
                    </a:lnTo>
                    <a:lnTo>
                      <a:pt x="1237" y="359"/>
                    </a:lnTo>
                    <a:lnTo>
                      <a:pt x="1149" y="382"/>
                    </a:lnTo>
                    <a:lnTo>
                      <a:pt x="1061" y="359"/>
                    </a:lnTo>
                    <a:lnTo>
                      <a:pt x="934" y="353"/>
                    </a:lnTo>
                    <a:lnTo>
                      <a:pt x="821" y="339"/>
                    </a:lnTo>
                    <a:lnTo>
                      <a:pt x="696" y="313"/>
                    </a:lnTo>
                    <a:lnTo>
                      <a:pt x="575" y="300"/>
                    </a:lnTo>
                    <a:lnTo>
                      <a:pt x="470" y="277"/>
                    </a:lnTo>
                    <a:lnTo>
                      <a:pt x="337" y="229"/>
                    </a:lnTo>
                    <a:lnTo>
                      <a:pt x="229" y="185"/>
                    </a:lnTo>
                    <a:lnTo>
                      <a:pt x="80" y="110"/>
                    </a:lnTo>
                    <a:lnTo>
                      <a:pt x="26" y="60"/>
                    </a:lnTo>
                    <a:lnTo>
                      <a:pt x="0" y="0"/>
                    </a:lnTo>
                    <a:lnTo>
                      <a:pt x="5" y="23"/>
                    </a:lnTo>
                    <a:lnTo>
                      <a:pt x="54" y="348"/>
                    </a:lnTo>
                    <a:lnTo>
                      <a:pt x="50" y="325"/>
                    </a:lnTo>
                    <a:lnTo>
                      <a:pt x="73" y="382"/>
                    </a:lnTo>
                    <a:lnTo>
                      <a:pt x="124" y="435"/>
                    </a:lnTo>
                    <a:lnTo>
                      <a:pt x="269" y="522"/>
                    </a:lnTo>
                    <a:lnTo>
                      <a:pt x="374" y="547"/>
                    </a:lnTo>
                    <a:lnTo>
                      <a:pt x="487" y="574"/>
                    </a:lnTo>
                    <a:lnTo>
                      <a:pt x="600" y="602"/>
                    </a:lnTo>
                    <a:lnTo>
                      <a:pt x="713" y="618"/>
                    </a:lnTo>
                    <a:lnTo>
                      <a:pt x="832" y="632"/>
                    </a:lnTo>
                    <a:lnTo>
                      <a:pt x="942" y="643"/>
                    </a:lnTo>
                    <a:lnTo>
                      <a:pt x="1064" y="669"/>
                    </a:lnTo>
                    <a:lnTo>
                      <a:pt x="1149" y="705"/>
                    </a:lnTo>
                    <a:lnTo>
                      <a:pt x="1237" y="669"/>
                    </a:lnTo>
                    <a:lnTo>
                      <a:pt x="1358" y="643"/>
                    </a:lnTo>
                    <a:lnTo>
                      <a:pt x="1472" y="632"/>
                    </a:lnTo>
                    <a:lnTo>
                      <a:pt x="1587" y="618"/>
                    </a:lnTo>
                    <a:lnTo>
                      <a:pt x="1701" y="602"/>
                    </a:lnTo>
                    <a:lnTo>
                      <a:pt x="1811" y="574"/>
                    </a:lnTo>
                    <a:lnTo>
                      <a:pt x="1928" y="547"/>
                    </a:lnTo>
                    <a:lnTo>
                      <a:pt x="2035" y="522"/>
                    </a:lnTo>
                    <a:lnTo>
                      <a:pt x="2180" y="435"/>
                    </a:lnTo>
                    <a:lnTo>
                      <a:pt x="2227" y="382"/>
                    </a:lnTo>
                    <a:lnTo>
                      <a:pt x="2250" y="325"/>
                    </a:lnTo>
                    <a:lnTo>
                      <a:pt x="2241" y="348"/>
                    </a:lnTo>
                    <a:lnTo>
                      <a:pt x="2301" y="23"/>
                    </a:lnTo>
                    <a:lnTo>
                      <a:pt x="229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65120" y="3522240"/>
              <a:ext cx="284400" cy="433800"/>
              <a:chOff x="2265120" y="3522240"/>
              <a:chExt cx="284400" cy="433800"/>
            </a:xfrm>
          </p:grpSpPr>
          <p:sp>
            <p:nvSpPr>
              <p:cNvPr id="83" name=""/>
              <p:cNvSpPr/>
              <p:nvPr/>
            </p:nvSpPr>
            <p:spPr>
              <a:xfrm>
                <a:off x="2265120" y="3522240"/>
                <a:ext cx="284400" cy="433800"/>
              </a:xfrm>
              <a:custGeom>
                <a:avLst/>
                <a:gdLst/>
                <a:ahLst/>
                <a:rect l="l" t="t" r="r" b="b"/>
                <a:pathLst>
                  <a:path w="277" h="416">
                    <a:moveTo>
                      <a:pt x="80" y="387"/>
                    </a:moveTo>
                    <a:lnTo>
                      <a:pt x="127" y="416"/>
                    </a:lnTo>
                    <a:lnTo>
                      <a:pt x="124" y="410"/>
                    </a:lnTo>
                    <a:lnTo>
                      <a:pt x="113" y="384"/>
                    </a:lnTo>
                    <a:lnTo>
                      <a:pt x="108" y="348"/>
                    </a:lnTo>
                    <a:lnTo>
                      <a:pt x="108" y="311"/>
                    </a:lnTo>
                    <a:lnTo>
                      <a:pt x="113" y="279"/>
                    </a:lnTo>
                    <a:lnTo>
                      <a:pt x="127" y="250"/>
                    </a:lnTo>
                    <a:lnTo>
                      <a:pt x="147" y="224"/>
                    </a:lnTo>
                    <a:lnTo>
                      <a:pt x="172" y="206"/>
                    </a:lnTo>
                    <a:lnTo>
                      <a:pt x="195" y="201"/>
                    </a:lnTo>
                    <a:lnTo>
                      <a:pt x="220" y="201"/>
                    </a:lnTo>
                    <a:lnTo>
                      <a:pt x="249" y="209"/>
                    </a:lnTo>
                    <a:lnTo>
                      <a:pt x="277" y="238"/>
                    </a:lnTo>
                    <a:lnTo>
                      <a:pt x="277" y="35"/>
                    </a:lnTo>
                    <a:lnTo>
                      <a:pt x="243" y="16"/>
                    </a:lnTo>
                    <a:lnTo>
                      <a:pt x="211" y="0"/>
                    </a:lnTo>
                    <a:lnTo>
                      <a:pt x="172" y="0"/>
                    </a:lnTo>
                    <a:lnTo>
                      <a:pt x="136" y="9"/>
                    </a:lnTo>
                    <a:lnTo>
                      <a:pt x="101" y="23"/>
                    </a:lnTo>
                    <a:lnTo>
                      <a:pt x="71" y="44"/>
                    </a:lnTo>
                    <a:lnTo>
                      <a:pt x="43" y="78"/>
                    </a:lnTo>
                    <a:lnTo>
                      <a:pt x="22" y="110"/>
                    </a:lnTo>
                    <a:lnTo>
                      <a:pt x="8" y="158"/>
                    </a:lnTo>
                    <a:lnTo>
                      <a:pt x="0" y="201"/>
                    </a:lnTo>
                    <a:lnTo>
                      <a:pt x="0" y="250"/>
                    </a:lnTo>
                    <a:lnTo>
                      <a:pt x="5" y="284"/>
                    </a:lnTo>
                    <a:lnTo>
                      <a:pt x="26" y="334"/>
                    </a:lnTo>
                    <a:lnTo>
                      <a:pt x="80" y="38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65120" y="3522240"/>
                <a:ext cx="284400" cy="433800"/>
              </a:xfrm>
              <a:custGeom>
                <a:avLst/>
                <a:gdLst/>
                <a:ahLst/>
                <a:rect l="l" t="t" r="r" b="b"/>
                <a:pathLst>
                  <a:path w="277" h="416">
                    <a:moveTo>
                      <a:pt x="80" y="387"/>
                    </a:moveTo>
                    <a:lnTo>
                      <a:pt x="127" y="416"/>
                    </a:lnTo>
                    <a:lnTo>
                      <a:pt x="124" y="410"/>
                    </a:lnTo>
                    <a:lnTo>
                      <a:pt x="113" y="384"/>
                    </a:lnTo>
                    <a:lnTo>
                      <a:pt x="108" y="348"/>
                    </a:lnTo>
                    <a:lnTo>
                      <a:pt x="108" y="311"/>
                    </a:lnTo>
                    <a:lnTo>
                      <a:pt x="113" y="279"/>
                    </a:lnTo>
                    <a:lnTo>
                      <a:pt x="127" y="250"/>
                    </a:lnTo>
                    <a:lnTo>
                      <a:pt x="147" y="224"/>
                    </a:lnTo>
                    <a:lnTo>
                      <a:pt x="172" y="206"/>
                    </a:lnTo>
                    <a:lnTo>
                      <a:pt x="195" y="201"/>
                    </a:lnTo>
                    <a:lnTo>
                      <a:pt x="220" y="201"/>
                    </a:lnTo>
                    <a:lnTo>
                      <a:pt x="249" y="209"/>
                    </a:lnTo>
                    <a:lnTo>
                      <a:pt x="277" y="238"/>
                    </a:lnTo>
                    <a:lnTo>
                      <a:pt x="277" y="35"/>
                    </a:lnTo>
                    <a:lnTo>
                      <a:pt x="243" y="16"/>
                    </a:lnTo>
                    <a:lnTo>
                      <a:pt x="211" y="0"/>
                    </a:lnTo>
                    <a:lnTo>
                      <a:pt x="172" y="0"/>
                    </a:lnTo>
                    <a:lnTo>
                      <a:pt x="136" y="9"/>
                    </a:lnTo>
                    <a:lnTo>
                      <a:pt x="101" y="23"/>
                    </a:lnTo>
                    <a:lnTo>
                      <a:pt x="71" y="44"/>
                    </a:lnTo>
                    <a:lnTo>
                      <a:pt x="43" y="78"/>
                    </a:lnTo>
                    <a:lnTo>
                      <a:pt x="22" y="110"/>
                    </a:lnTo>
                    <a:lnTo>
                      <a:pt x="8" y="158"/>
                    </a:lnTo>
                    <a:lnTo>
                      <a:pt x="0" y="201"/>
                    </a:lnTo>
                    <a:lnTo>
                      <a:pt x="0" y="250"/>
                    </a:lnTo>
                    <a:lnTo>
                      <a:pt x="5" y="284"/>
                    </a:lnTo>
                    <a:lnTo>
                      <a:pt x="26" y="334"/>
                    </a:lnTo>
                    <a:lnTo>
                      <a:pt x="80" y="38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804040" y="1965240"/>
              <a:ext cx="284040" cy="453600"/>
            </a:xfrm>
            <a:custGeom>
              <a:avLst/>
              <a:gdLst/>
              <a:ahLst/>
              <a:rect l="l" t="t" r="r" b="b"/>
              <a:pathLst>
                <a:path w="281" h="430">
                  <a:moveTo>
                    <a:pt x="278" y="36"/>
                  </a:moveTo>
                  <a:lnTo>
                    <a:pt x="281" y="29"/>
                  </a:lnTo>
                  <a:lnTo>
                    <a:pt x="281" y="20"/>
                  </a:lnTo>
                  <a:lnTo>
                    <a:pt x="281" y="18"/>
                  </a:lnTo>
                  <a:lnTo>
                    <a:pt x="275" y="9"/>
                  </a:lnTo>
                  <a:lnTo>
                    <a:pt x="266" y="4"/>
                  </a:lnTo>
                  <a:lnTo>
                    <a:pt x="257" y="0"/>
                  </a:lnTo>
                  <a:lnTo>
                    <a:pt x="229" y="9"/>
                  </a:lnTo>
                  <a:lnTo>
                    <a:pt x="199" y="20"/>
                  </a:lnTo>
                  <a:lnTo>
                    <a:pt x="156" y="47"/>
                  </a:lnTo>
                  <a:lnTo>
                    <a:pt x="117" y="75"/>
                  </a:lnTo>
                  <a:lnTo>
                    <a:pt x="85" y="123"/>
                  </a:lnTo>
                  <a:lnTo>
                    <a:pt x="49" y="160"/>
                  </a:lnTo>
                  <a:lnTo>
                    <a:pt x="26" y="212"/>
                  </a:lnTo>
                  <a:lnTo>
                    <a:pt x="12" y="267"/>
                  </a:lnTo>
                  <a:lnTo>
                    <a:pt x="0" y="334"/>
                  </a:lnTo>
                  <a:lnTo>
                    <a:pt x="0" y="384"/>
                  </a:lnTo>
                  <a:lnTo>
                    <a:pt x="3" y="425"/>
                  </a:lnTo>
                  <a:lnTo>
                    <a:pt x="12" y="430"/>
                  </a:lnTo>
                  <a:lnTo>
                    <a:pt x="26" y="430"/>
                  </a:lnTo>
                  <a:lnTo>
                    <a:pt x="28" y="418"/>
                  </a:lnTo>
                  <a:lnTo>
                    <a:pt x="37" y="384"/>
                  </a:lnTo>
                  <a:lnTo>
                    <a:pt x="54" y="311"/>
                  </a:lnTo>
                  <a:lnTo>
                    <a:pt x="85" y="242"/>
                  </a:lnTo>
                  <a:lnTo>
                    <a:pt x="124" y="187"/>
                  </a:lnTo>
                  <a:lnTo>
                    <a:pt x="156" y="137"/>
                  </a:lnTo>
                  <a:lnTo>
                    <a:pt x="213" y="88"/>
                  </a:lnTo>
                  <a:lnTo>
                    <a:pt x="266" y="45"/>
                  </a:lnTo>
                  <a:lnTo>
                    <a:pt x="278" y="36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4040" y="1965240"/>
              <a:ext cx="299520" cy="462960"/>
            </a:xfrm>
            <a:custGeom>
              <a:avLst/>
              <a:gdLst/>
              <a:ahLst/>
              <a:rect l="l" t="t" r="r" b="b"/>
              <a:pathLst>
                <a:path w="295" h="441">
                  <a:moveTo>
                    <a:pt x="292" y="36"/>
                  </a:moveTo>
                  <a:lnTo>
                    <a:pt x="295" y="29"/>
                  </a:lnTo>
                  <a:lnTo>
                    <a:pt x="295" y="20"/>
                  </a:lnTo>
                  <a:lnTo>
                    <a:pt x="295" y="18"/>
                  </a:lnTo>
                  <a:lnTo>
                    <a:pt x="289" y="9"/>
                  </a:lnTo>
                  <a:lnTo>
                    <a:pt x="281" y="4"/>
                  </a:lnTo>
                  <a:lnTo>
                    <a:pt x="269" y="0"/>
                  </a:lnTo>
                  <a:lnTo>
                    <a:pt x="241" y="9"/>
                  </a:lnTo>
                  <a:lnTo>
                    <a:pt x="210" y="20"/>
                  </a:lnTo>
                  <a:lnTo>
                    <a:pt x="164" y="50"/>
                  </a:lnTo>
                  <a:lnTo>
                    <a:pt x="122" y="79"/>
                  </a:lnTo>
                  <a:lnTo>
                    <a:pt x="91" y="125"/>
                  </a:lnTo>
                  <a:lnTo>
                    <a:pt x="51" y="164"/>
                  </a:lnTo>
                  <a:lnTo>
                    <a:pt x="26" y="219"/>
                  </a:lnTo>
                  <a:lnTo>
                    <a:pt x="12" y="274"/>
                  </a:lnTo>
                  <a:lnTo>
                    <a:pt x="0" y="343"/>
                  </a:lnTo>
                  <a:lnTo>
                    <a:pt x="0" y="395"/>
                  </a:lnTo>
                  <a:lnTo>
                    <a:pt x="3" y="436"/>
                  </a:lnTo>
                  <a:lnTo>
                    <a:pt x="14" y="441"/>
                  </a:lnTo>
                  <a:lnTo>
                    <a:pt x="26" y="441"/>
                  </a:lnTo>
                  <a:lnTo>
                    <a:pt x="28" y="430"/>
                  </a:lnTo>
                  <a:lnTo>
                    <a:pt x="37" y="395"/>
                  </a:lnTo>
                  <a:lnTo>
                    <a:pt x="57" y="320"/>
                  </a:lnTo>
                  <a:lnTo>
                    <a:pt x="91" y="247"/>
                  </a:lnTo>
                  <a:lnTo>
                    <a:pt x="131" y="189"/>
                  </a:lnTo>
                  <a:lnTo>
                    <a:pt x="162" y="139"/>
                  </a:lnTo>
                  <a:lnTo>
                    <a:pt x="222" y="91"/>
                  </a:lnTo>
                  <a:lnTo>
                    <a:pt x="281" y="45"/>
                  </a:lnTo>
                  <a:lnTo>
                    <a:pt x="292" y="3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8480" y="1760760"/>
              <a:ext cx="110160" cy="15048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108" y="73"/>
                  </a:moveTo>
                  <a:lnTo>
                    <a:pt x="99" y="38"/>
                  </a:lnTo>
                  <a:lnTo>
                    <a:pt x="80" y="11"/>
                  </a:lnTo>
                  <a:lnTo>
                    <a:pt x="57" y="0"/>
                  </a:lnTo>
                  <a:lnTo>
                    <a:pt x="26" y="11"/>
                  </a:lnTo>
                  <a:lnTo>
                    <a:pt x="5" y="38"/>
                  </a:lnTo>
                  <a:lnTo>
                    <a:pt x="0" y="73"/>
                  </a:lnTo>
                  <a:lnTo>
                    <a:pt x="5" y="107"/>
                  </a:lnTo>
                  <a:lnTo>
                    <a:pt x="26" y="134"/>
                  </a:lnTo>
                  <a:lnTo>
                    <a:pt x="57" y="146"/>
                  </a:lnTo>
                  <a:lnTo>
                    <a:pt x="80" y="134"/>
                  </a:lnTo>
                  <a:lnTo>
                    <a:pt x="99" y="107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98480" y="1760760"/>
              <a:ext cx="122400" cy="16632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122" y="82"/>
                  </a:moveTo>
                  <a:lnTo>
                    <a:pt x="113" y="43"/>
                  </a:lnTo>
                  <a:lnTo>
                    <a:pt x="89" y="11"/>
                  </a:lnTo>
                  <a:lnTo>
                    <a:pt x="63" y="0"/>
                  </a:lnTo>
                  <a:lnTo>
                    <a:pt x="29" y="11"/>
                  </a:lnTo>
                  <a:lnTo>
                    <a:pt x="5" y="43"/>
                  </a:lnTo>
                  <a:lnTo>
                    <a:pt x="0" y="82"/>
                  </a:lnTo>
                  <a:lnTo>
                    <a:pt x="5" y="119"/>
                  </a:lnTo>
                  <a:lnTo>
                    <a:pt x="29" y="148"/>
                  </a:lnTo>
                  <a:lnTo>
                    <a:pt x="63" y="160"/>
                  </a:lnTo>
                  <a:lnTo>
                    <a:pt x="89" y="148"/>
                  </a:lnTo>
                  <a:lnTo>
                    <a:pt x="113" y="119"/>
                  </a:lnTo>
                  <a:lnTo>
                    <a:pt x="122" y="8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4520" y="1857960"/>
              <a:ext cx="235080" cy="280800"/>
            </a:xfrm>
            <a:custGeom>
              <a:avLst/>
              <a:gdLst/>
              <a:ahLst/>
              <a:rect l="l" t="t" r="r" b="b"/>
              <a:pathLst>
                <a:path w="230" h="268">
                  <a:moveTo>
                    <a:pt x="230" y="172"/>
                  </a:moveTo>
                  <a:lnTo>
                    <a:pt x="37" y="0"/>
                  </a:lnTo>
                  <a:lnTo>
                    <a:pt x="37" y="3"/>
                  </a:lnTo>
                  <a:lnTo>
                    <a:pt x="34" y="17"/>
                  </a:lnTo>
                  <a:lnTo>
                    <a:pt x="25" y="26"/>
                  </a:lnTo>
                  <a:lnTo>
                    <a:pt x="11" y="44"/>
                  </a:lnTo>
                  <a:lnTo>
                    <a:pt x="0" y="49"/>
                  </a:lnTo>
                  <a:lnTo>
                    <a:pt x="151" y="268"/>
                  </a:lnTo>
                  <a:lnTo>
                    <a:pt x="230" y="17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84520" y="1857960"/>
              <a:ext cx="244080" cy="296280"/>
            </a:xfrm>
            <a:custGeom>
              <a:avLst/>
              <a:gdLst/>
              <a:ahLst/>
              <a:rect l="l" t="t" r="r" b="b"/>
              <a:pathLst>
                <a:path w="240" h="282">
                  <a:moveTo>
                    <a:pt x="240" y="181"/>
                  </a:moveTo>
                  <a:lnTo>
                    <a:pt x="39" y="0"/>
                  </a:lnTo>
                  <a:lnTo>
                    <a:pt x="39" y="3"/>
                  </a:lnTo>
                  <a:lnTo>
                    <a:pt x="34" y="17"/>
                  </a:lnTo>
                  <a:lnTo>
                    <a:pt x="29" y="30"/>
                  </a:lnTo>
                  <a:lnTo>
                    <a:pt x="15" y="44"/>
                  </a:lnTo>
                  <a:lnTo>
                    <a:pt x="0" y="53"/>
                  </a:lnTo>
                  <a:lnTo>
                    <a:pt x="158" y="282"/>
                  </a:lnTo>
                  <a:lnTo>
                    <a:pt x="240" y="18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021120" y="3004920"/>
              <a:ext cx="815760" cy="528840"/>
              <a:chOff x="3021120" y="3004920"/>
              <a:chExt cx="815760" cy="528840"/>
            </a:xfrm>
          </p:grpSpPr>
          <p:sp>
            <p:nvSpPr>
              <p:cNvPr id="92" name=""/>
              <p:cNvSpPr/>
              <p:nvPr/>
            </p:nvSpPr>
            <p:spPr>
              <a:xfrm>
                <a:off x="3021120" y="3004920"/>
                <a:ext cx="815760" cy="528840"/>
              </a:xfrm>
              <a:custGeom>
                <a:avLst/>
                <a:gdLst/>
                <a:ahLst/>
                <a:rect l="l" t="t" r="r" b="b"/>
                <a:pathLst>
                  <a:path w="801" h="502">
                    <a:moveTo>
                      <a:pt x="533" y="0"/>
                    </a:moveTo>
                    <a:lnTo>
                      <a:pt x="397" y="101"/>
                    </a:lnTo>
                    <a:lnTo>
                      <a:pt x="341" y="58"/>
                    </a:lnTo>
                    <a:lnTo>
                      <a:pt x="306" y="101"/>
                    </a:lnTo>
                    <a:lnTo>
                      <a:pt x="261" y="160"/>
                    </a:lnTo>
                    <a:lnTo>
                      <a:pt x="218" y="204"/>
                    </a:lnTo>
                    <a:lnTo>
                      <a:pt x="204" y="227"/>
                    </a:lnTo>
                    <a:lnTo>
                      <a:pt x="173" y="211"/>
                    </a:lnTo>
                    <a:lnTo>
                      <a:pt x="145" y="211"/>
                    </a:lnTo>
                    <a:lnTo>
                      <a:pt x="119" y="211"/>
                    </a:lnTo>
                    <a:lnTo>
                      <a:pt x="100" y="218"/>
                    </a:lnTo>
                    <a:lnTo>
                      <a:pt x="80" y="227"/>
                    </a:lnTo>
                    <a:lnTo>
                      <a:pt x="63" y="238"/>
                    </a:lnTo>
                    <a:lnTo>
                      <a:pt x="49" y="252"/>
                    </a:lnTo>
                    <a:lnTo>
                      <a:pt x="40" y="261"/>
                    </a:lnTo>
                    <a:lnTo>
                      <a:pt x="28" y="275"/>
                    </a:lnTo>
                    <a:lnTo>
                      <a:pt x="14" y="282"/>
                    </a:lnTo>
                    <a:lnTo>
                      <a:pt x="0" y="305"/>
                    </a:lnTo>
                    <a:lnTo>
                      <a:pt x="7" y="305"/>
                    </a:lnTo>
                    <a:lnTo>
                      <a:pt x="63" y="371"/>
                    </a:lnTo>
                    <a:lnTo>
                      <a:pt x="117" y="410"/>
                    </a:lnTo>
                    <a:lnTo>
                      <a:pt x="170" y="438"/>
                    </a:lnTo>
                    <a:lnTo>
                      <a:pt x="222" y="467"/>
                    </a:lnTo>
                    <a:lnTo>
                      <a:pt x="278" y="485"/>
                    </a:lnTo>
                    <a:lnTo>
                      <a:pt x="334" y="497"/>
                    </a:lnTo>
                    <a:lnTo>
                      <a:pt x="394" y="502"/>
                    </a:lnTo>
                    <a:lnTo>
                      <a:pt x="451" y="499"/>
                    </a:lnTo>
                    <a:lnTo>
                      <a:pt x="510" y="488"/>
                    </a:lnTo>
                    <a:lnTo>
                      <a:pt x="563" y="472"/>
                    </a:lnTo>
                    <a:lnTo>
                      <a:pt x="620" y="449"/>
                    </a:lnTo>
                    <a:lnTo>
                      <a:pt x="671" y="421"/>
                    </a:lnTo>
                    <a:lnTo>
                      <a:pt x="722" y="383"/>
                    </a:lnTo>
                    <a:lnTo>
                      <a:pt x="796" y="316"/>
                    </a:lnTo>
                    <a:lnTo>
                      <a:pt x="801" y="310"/>
                    </a:lnTo>
                    <a:lnTo>
                      <a:pt x="572" y="46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21120" y="3004920"/>
                <a:ext cx="815760" cy="528840"/>
              </a:xfrm>
              <a:custGeom>
                <a:avLst/>
                <a:gdLst/>
                <a:ahLst/>
                <a:rect l="l" t="t" r="r" b="b"/>
                <a:pathLst>
                  <a:path w="801" h="502">
                    <a:moveTo>
                      <a:pt x="533" y="0"/>
                    </a:moveTo>
                    <a:lnTo>
                      <a:pt x="397" y="101"/>
                    </a:lnTo>
                    <a:lnTo>
                      <a:pt x="341" y="58"/>
                    </a:lnTo>
                    <a:lnTo>
                      <a:pt x="306" y="101"/>
                    </a:lnTo>
                    <a:lnTo>
                      <a:pt x="261" y="160"/>
                    </a:lnTo>
                    <a:lnTo>
                      <a:pt x="218" y="204"/>
                    </a:lnTo>
                    <a:lnTo>
                      <a:pt x="204" y="227"/>
                    </a:lnTo>
                    <a:lnTo>
                      <a:pt x="173" y="211"/>
                    </a:lnTo>
                    <a:lnTo>
                      <a:pt x="145" y="211"/>
                    </a:lnTo>
                    <a:lnTo>
                      <a:pt x="119" y="211"/>
                    </a:lnTo>
                    <a:lnTo>
                      <a:pt x="100" y="218"/>
                    </a:lnTo>
                    <a:lnTo>
                      <a:pt x="80" y="227"/>
                    </a:lnTo>
                    <a:lnTo>
                      <a:pt x="63" y="238"/>
                    </a:lnTo>
                    <a:lnTo>
                      <a:pt x="49" y="252"/>
                    </a:lnTo>
                    <a:lnTo>
                      <a:pt x="40" y="261"/>
                    </a:lnTo>
                    <a:lnTo>
                      <a:pt x="28" y="275"/>
                    </a:lnTo>
                    <a:lnTo>
                      <a:pt x="14" y="282"/>
                    </a:lnTo>
                    <a:lnTo>
                      <a:pt x="0" y="305"/>
                    </a:lnTo>
                    <a:lnTo>
                      <a:pt x="7" y="305"/>
                    </a:lnTo>
                    <a:lnTo>
                      <a:pt x="63" y="371"/>
                    </a:lnTo>
                    <a:lnTo>
                      <a:pt x="117" y="410"/>
                    </a:lnTo>
                    <a:lnTo>
                      <a:pt x="170" y="438"/>
                    </a:lnTo>
                    <a:lnTo>
                      <a:pt x="222" y="467"/>
                    </a:lnTo>
                    <a:lnTo>
                      <a:pt x="278" y="485"/>
                    </a:lnTo>
                    <a:lnTo>
                      <a:pt x="334" y="497"/>
                    </a:lnTo>
                    <a:lnTo>
                      <a:pt x="394" y="502"/>
                    </a:lnTo>
                    <a:lnTo>
                      <a:pt x="451" y="499"/>
                    </a:lnTo>
                    <a:lnTo>
                      <a:pt x="510" y="488"/>
                    </a:lnTo>
                    <a:lnTo>
                      <a:pt x="563" y="472"/>
                    </a:lnTo>
                    <a:lnTo>
                      <a:pt x="620" y="449"/>
                    </a:lnTo>
                    <a:lnTo>
                      <a:pt x="671" y="421"/>
                    </a:lnTo>
                    <a:lnTo>
                      <a:pt x="722" y="383"/>
                    </a:lnTo>
                    <a:lnTo>
                      <a:pt x="796" y="316"/>
                    </a:lnTo>
                    <a:lnTo>
                      <a:pt x="801" y="310"/>
                    </a:lnTo>
                    <a:lnTo>
                      <a:pt x="572" y="46"/>
                    </a:lnTo>
                    <a:lnTo>
                      <a:pt x="533" y="0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427560" y="3125160"/>
              <a:ext cx="3240" cy="393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15440" y="3402360"/>
              <a:ext cx="6454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2000" y="3078000"/>
              <a:ext cx="11556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678480" y="2324520"/>
              <a:ext cx="381600" cy="910080"/>
              <a:chOff x="3678480" y="2324520"/>
              <a:chExt cx="381600" cy="910080"/>
            </a:xfrm>
          </p:grpSpPr>
          <p:sp>
            <p:nvSpPr>
              <p:cNvPr id="98" name=""/>
              <p:cNvSpPr/>
              <p:nvPr/>
            </p:nvSpPr>
            <p:spPr>
              <a:xfrm>
                <a:off x="3678480" y="2324520"/>
                <a:ext cx="381600" cy="910080"/>
              </a:xfrm>
              <a:custGeom>
                <a:avLst/>
                <a:gdLst/>
                <a:ahLst/>
                <a:rect l="l" t="t" r="r" b="b"/>
                <a:pathLst>
                  <a:path w="376" h="868">
                    <a:moveTo>
                      <a:pt x="99" y="256"/>
                    </a:moveTo>
                    <a:lnTo>
                      <a:pt x="151" y="177"/>
                    </a:lnTo>
                    <a:lnTo>
                      <a:pt x="207" y="119"/>
                    </a:lnTo>
                    <a:lnTo>
                      <a:pt x="263" y="49"/>
                    </a:lnTo>
                    <a:lnTo>
                      <a:pt x="289" y="0"/>
                    </a:lnTo>
                    <a:lnTo>
                      <a:pt x="291" y="5"/>
                    </a:lnTo>
                    <a:lnTo>
                      <a:pt x="297" y="18"/>
                    </a:lnTo>
                    <a:lnTo>
                      <a:pt x="329" y="81"/>
                    </a:lnTo>
                    <a:lnTo>
                      <a:pt x="348" y="156"/>
                    </a:lnTo>
                    <a:lnTo>
                      <a:pt x="362" y="227"/>
                    </a:lnTo>
                    <a:lnTo>
                      <a:pt x="371" y="296"/>
                    </a:lnTo>
                    <a:lnTo>
                      <a:pt x="376" y="371"/>
                    </a:lnTo>
                    <a:lnTo>
                      <a:pt x="376" y="447"/>
                    </a:lnTo>
                    <a:lnTo>
                      <a:pt x="371" y="522"/>
                    </a:lnTo>
                    <a:lnTo>
                      <a:pt x="362" y="593"/>
                    </a:lnTo>
                    <a:lnTo>
                      <a:pt x="343" y="664"/>
                    </a:lnTo>
                    <a:lnTo>
                      <a:pt x="320" y="735"/>
                    </a:lnTo>
                    <a:lnTo>
                      <a:pt x="289" y="801"/>
                    </a:lnTo>
                    <a:lnTo>
                      <a:pt x="254" y="868"/>
                    </a:lnTo>
                    <a:lnTo>
                      <a:pt x="254" y="865"/>
                    </a:lnTo>
                    <a:lnTo>
                      <a:pt x="0" y="575"/>
                    </a:lnTo>
                    <a:lnTo>
                      <a:pt x="266" y="378"/>
                    </a:lnTo>
                    <a:lnTo>
                      <a:pt x="99" y="25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8480" y="2324520"/>
                <a:ext cx="381600" cy="910080"/>
              </a:xfrm>
              <a:custGeom>
                <a:avLst/>
                <a:gdLst/>
                <a:ahLst/>
                <a:rect l="l" t="t" r="r" b="b"/>
                <a:pathLst>
                  <a:path w="376" h="868">
                    <a:moveTo>
                      <a:pt x="99" y="256"/>
                    </a:moveTo>
                    <a:lnTo>
                      <a:pt x="151" y="177"/>
                    </a:lnTo>
                    <a:lnTo>
                      <a:pt x="207" y="119"/>
                    </a:lnTo>
                    <a:lnTo>
                      <a:pt x="263" y="49"/>
                    </a:lnTo>
                    <a:lnTo>
                      <a:pt x="289" y="0"/>
                    </a:lnTo>
                    <a:lnTo>
                      <a:pt x="291" y="5"/>
                    </a:lnTo>
                    <a:lnTo>
                      <a:pt x="297" y="18"/>
                    </a:lnTo>
                    <a:lnTo>
                      <a:pt x="329" y="81"/>
                    </a:lnTo>
                    <a:lnTo>
                      <a:pt x="348" y="156"/>
                    </a:lnTo>
                    <a:lnTo>
                      <a:pt x="362" y="227"/>
                    </a:lnTo>
                    <a:lnTo>
                      <a:pt x="371" y="296"/>
                    </a:lnTo>
                    <a:lnTo>
                      <a:pt x="376" y="371"/>
                    </a:lnTo>
                    <a:lnTo>
                      <a:pt x="376" y="447"/>
                    </a:lnTo>
                    <a:lnTo>
                      <a:pt x="371" y="522"/>
                    </a:lnTo>
                    <a:lnTo>
                      <a:pt x="362" y="593"/>
                    </a:lnTo>
                    <a:lnTo>
                      <a:pt x="343" y="664"/>
                    </a:lnTo>
                    <a:lnTo>
                      <a:pt x="320" y="735"/>
                    </a:lnTo>
                    <a:lnTo>
                      <a:pt x="289" y="801"/>
                    </a:lnTo>
                    <a:lnTo>
                      <a:pt x="254" y="868"/>
                    </a:lnTo>
                    <a:lnTo>
                      <a:pt x="254" y="865"/>
                    </a:lnTo>
                    <a:lnTo>
                      <a:pt x="0" y="575"/>
                    </a:lnTo>
                    <a:lnTo>
                      <a:pt x="266" y="378"/>
                    </a:lnTo>
                    <a:lnTo>
                      <a:pt x="99" y="256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3965760" y="2721960"/>
              <a:ext cx="8244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53880" y="2381040"/>
              <a:ext cx="24120" cy="32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785040" y="3078000"/>
              <a:ext cx="23580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008520" y="1933560"/>
              <a:ext cx="773640" cy="522720"/>
              <a:chOff x="3008520" y="1933560"/>
              <a:chExt cx="773640" cy="522720"/>
            </a:xfrm>
          </p:grpSpPr>
          <p:sp>
            <p:nvSpPr>
              <p:cNvPr id="104" name=""/>
              <p:cNvSpPr/>
              <p:nvPr/>
            </p:nvSpPr>
            <p:spPr>
              <a:xfrm>
                <a:off x="3008520" y="1933560"/>
                <a:ext cx="773640" cy="522720"/>
              </a:xfrm>
              <a:custGeom>
                <a:avLst/>
                <a:gdLst/>
                <a:ahLst/>
                <a:rect l="l" t="t" r="r" b="b"/>
                <a:pathLst>
                  <a:path w="759" h="499">
                    <a:moveTo>
                      <a:pt x="504" y="447"/>
                    </a:moveTo>
                    <a:lnTo>
                      <a:pt x="411" y="380"/>
                    </a:lnTo>
                    <a:lnTo>
                      <a:pt x="252" y="499"/>
                    </a:lnTo>
                    <a:lnTo>
                      <a:pt x="232" y="484"/>
                    </a:lnTo>
                    <a:lnTo>
                      <a:pt x="0" y="211"/>
                    </a:lnTo>
                    <a:lnTo>
                      <a:pt x="5" y="206"/>
                    </a:lnTo>
                    <a:lnTo>
                      <a:pt x="17" y="195"/>
                    </a:lnTo>
                    <a:lnTo>
                      <a:pt x="59" y="149"/>
                    </a:lnTo>
                    <a:lnTo>
                      <a:pt x="108" y="105"/>
                    </a:lnTo>
                    <a:lnTo>
                      <a:pt x="159" y="76"/>
                    </a:lnTo>
                    <a:lnTo>
                      <a:pt x="215" y="44"/>
                    </a:lnTo>
                    <a:lnTo>
                      <a:pt x="269" y="23"/>
                    </a:lnTo>
                    <a:lnTo>
                      <a:pt x="325" y="5"/>
                    </a:lnTo>
                    <a:lnTo>
                      <a:pt x="379" y="0"/>
                    </a:lnTo>
                    <a:lnTo>
                      <a:pt x="442" y="0"/>
                    </a:lnTo>
                    <a:lnTo>
                      <a:pt x="498" y="5"/>
                    </a:lnTo>
                    <a:lnTo>
                      <a:pt x="556" y="18"/>
                    </a:lnTo>
                    <a:lnTo>
                      <a:pt x="609" y="41"/>
                    </a:lnTo>
                    <a:lnTo>
                      <a:pt x="666" y="64"/>
                    </a:lnTo>
                    <a:lnTo>
                      <a:pt x="717" y="99"/>
                    </a:lnTo>
                    <a:lnTo>
                      <a:pt x="759" y="136"/>
                    </a:lnTo>
                    <a:lnTo>
                      <a:pt x="753" y="140"/>
                    </a:lnTo>
                    <a:lnTo>
                      <a:pt x="719" y="179"/>
                    </a:lnTo>
                    <a:lnTo>
                      <a:pt x="620" y="298"/>
                    </a:lnTo>
                    <a:lnTo>
                      <a:pt x="572" y="357"/>
                    </a:lnTo>
                    <a:lnTo>
                      <a:pt x="524" y="415"/>
                    </a:lnTo>
                    <a:lnTo>
                      <a:pt x="504" y="44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08520" y="1933560"/>
                <a:ext cx="773640" cy="522720"/>
              </a:xfrm>
              <a:custGeom>
                <a:avLst/>
                <a:gdLst/>
                <a:ahLst/>
                <a:rect l="l" t="t" r="r" b="b"/>
                <a:pathLst>
                  <a:path w="759" h="499">
                    <a:moveTo>
                      <a:pt x="504" y="447"/>
                    </a:moveTo>
                    <a:lnTo>
                      <a:pt x="411" y="380"/>
                    </a:lnTo>
                    <a:lnTo>
                      <a:pt x="252" y="499"/>
                    </a:lnTo>
                    <a:lnTo>
                      <a:pt x="232" y="484"/>
                    </a:lnTo>
                    <a:lnTo>
                      <a:pt x="0" y="211"/>
                    </a:lnTo>
                    <a:lnTo>
                      <a:pt x="5" y="206"/>
                    </a:lnTo>
                    <a:lnTo>
                      <a:pt x="17" y="195"/>
                    </a:lnTo>
                    <a:lnTo>
                      <a:pt x="59" y="149"/>
                    </a:lnTo>
                    <a:lnTo>
                      <a:pt x="108" y="105"/>
                    </a:lnTo>
                    <a:lnTo>
                      <a:pt x="159" y="76"/>
                    </a:lnTo>
                    <a:lnTo>
                      <a:pt x="215" y="44"/>
                    </a:lnTo>
                    <a:lnTo>
                      <a:pt x="269" y="23"/>
                    </a:lnTo>
                    <a:lnTo>
                      <a:pt x="325" y="5"/>
                    </a:lnTo>
                    <a:lnTo>
                      <a:pt x="379" y="0"/>
                    </a:lnTo>
                    <a:lnTo>
                      <a:pt x="442" y="0"/>
                    </a:lnTo>
                    <a:lnTo>
                      <a:pt x="498" y="5"/>
                    </a:lnTo>
                    <a:lnTo>
                      <a:pt x="556" y="18"/>
                    </a:lnTo>
                    <a:lnTo>
                      <a:pt x="609" y="41"/>
                    </a:lnTo>
                    <a:lnTo>
                      <a:pt x="666" y="64"/>
                    </a:lnTo>
                    <a:lnTo>
                      <a:pt x="717" y="99"/>
                    </a:lnTo>
                    <a:lnTo>
                      <a:pt x="759" y="136"/>
                    </a:lnTo>
                    <a:lnTo>
                      <a:pt x="753" y="140"/>
                    </a:lnTo>
                    <a:lnTo>
                      <a:pt x="719" y="179"/>
                    </a:lnTo>
                    <a:lnTo>
                      <a:pt x="620" y="298"/>
                    </a:lnTo>
                    <a:lnTo>
                      <a:pt x="572" y="357"/>
                    </a:lnTo>
                    <a:lnTo>
                      <a:pt x="524" y="415"/>
                    </a:lnTo>
                    <a:lnTo>
                      <a:pt x="504" y="447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V="1">
              <a:off x="3427560" y="1917720"/>
              <a:ext cx="3240" cy="4251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84840" y="2085120"/>
              <a:ext cx="6724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10480" y="2371680"/>
              <a:ext cx="1468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804040" y="2268000"/>
              <a:ext cx="366480" cy="963360"/>
              <a:chOff x="2804040" y="2268000"/>
              <a:chExt cx="366480" cy="963360"/>
            </a:xfrm>
          </p:grpSpPr>
          <p:sp>
            <p:nvSpPr>
              <p:cNvPr id="110" name=""/>
              <p:cNvSpPr/>
              <p:nvPr/>
            </p:nvSpPr>
            <p:spPr>
              <a:xfrm>
                <a:off x="2804040" y="2268000"/>
                <a:ext cx="366480" cy="963360"/>
              </a:xfrm>
              <a:custGeom>
                <a:avLst/>
                <a:gdLst/>
                <a:ahLst/>
                <a:rect l="l" t="t" r="r" b="b"/>
                <a:pathLst>
                  <a:path w="362" h="917">
                    <a:moveTo>
                      <a:pt x="133" y="917"/>
                    </a:moveTo>
                    <a:lnTo>
                      <a:pt x="108" y="879"/>
                    </a:lnTo>
                    <a:lnTo>
                      <a:pt x="80" y="821"/>
                    </a:lnTo>
                    <a:lnTo>
                      <a:pt x="51" y="757"/>
                    </a:lnTo>
                    <a:lnTo>
                      <a:pt x="28" y="687"/>
                    </a:lnTo>
                    <a:lnTo>
                      <a:pt x="14" y="627"/>
                    </a:lnTo>
                    <a:lnTo>
                      <a:pt x="5" y="551"/>
                    </a:lnTo>
                    <a:lnTo>
                      <a:pt x="0" y="481"/>
                    </a:lnTo>
                    <a:lnTo>
                      <a:pt x="0" y="409"/>
                    </a:lnTo>
                    <a:lnTo>
                      <a:pt x="5" y="336"/>
                    </a:lnTo>
                    <a:lnTo>
                      <a:pt x="17" y="270"/>
                    </a:lnTo>
                    <a:lnTo>
                      <a:pt x="37" y="203"/>
                    </a:lnTo>
                    <a:lnTo>
                      <a:pt x="59" y="137"/>
                    </a:lnTo>
                    <a:lnTo>
                      <a:pt x="89" y="73"/>
                    </a:lnTo>
                    <a:lnTo>
                      <a:pt x="133" y="0"/>
                    </a:lnTo>
                    <a:lnTo>
                      <a:pt x="136" y="0"/>
                    </a:lnTo>
                    <a:lnTo>
                      <a:pt x="346" y="258"/>
                    </a:lnTo>
                    <a:lnTo>
                      <a:pt x="122" y="430"/>
                    </a:lnTo>
                    <a:lnTo>
                      <a:pt x="362" y="618"/>
                    </a:lnTo>
                    <a:lnTo>
                      <a:pt x="339" y="636"/>
                    </a:lnTo>
                    <a:lnTo>
                      <a:pt x="295" y="702"/>
                    </a:lnTo>
                    <a:lnTo>
                      <a:pt x="278" y="723"/>
                    </a:lnTo>
                    <a:lnTo>
                      <a:pt x="243" y="762"/>
                    </a:lnTo>
                    <a:lnTo>
                      <a:pt x="199" y="821"/>
                    </a:lnTo>
                    <a:lnTo>
                      <a:pt x="133" y="91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04040" y="2268000"/>
                <a:ext cx="366480" cy="963360"/>
              </a:xfrm>
              <a:custGeom>
                <a:avLst/>
                <a:gdLst/>
                <a:ahLst/>
                <a:rect l="l" t="t" r="r" b="b"/>
                <a:pathLst>
                  <a:path w="362" h="917">
                    <a:moveTo>
                      <a:pt x="133" y="917"/>
                    </a:moveTo>
                    <a:lnTo>
                      <a:pt x="108" y="879"/>
                    </a:lnTo>
                    <a:lnTo>
                      <a:pt x="80" y="821"/>
                    </a:lnTo>
                    <a:lnTo>
                      <a:pt x="51" y="757"/>
                    </a:lnTo>
                    <a:lnTo>
                      <a:pt x="28" y="687"/>
                    </a:lnTo>
                    <a:lnTo>
                      <a:pt x="14" y="627"/>
                    </a:lnTo>
                    <a:lnTo>
                      <a:pt x="5" y="551"/>
                    </a:lnTo>
                    <a:lnTo>
                      <a:pt x="0" y="481"/>
                    </a:lnTo>
                    <a:lnTo>
                      <a:pt x="0" y="409"/>
                    </a:lnTo>
                    <a:lnTo>
                      <a:pt x="5" y="336"/>
                    </a:lnTo>
                    <a:lnTo>
                      <a:pt x="17" y="270"/>
                    </a:lnTo>
                    <a:lnTo>
                      <a:pt x="37" y="203"/>
                    </a:lnTo>
                    <a:lnTo>
                      <a:pt x="59" y="137"/>
                    </a:lnTo>
                    <a:lnTo>
                      <a:pt x="89" y="73"/>
                    </a:lnTo>
                    <a:lnTo>
                      <a:pt x="133" y="0"/>
                    </a:lnTo>
                    <a:lnTo>
                      <a:pt x="136" y="0"/>
                    </a:lnTo>
                    <a:lnTo>
                      <a:pt x="346" y="258"/>
                    </a:lnTo>
                    <a:lnTo>
                      <a:pt x="122" y="430"/>
                    </a:lnTo>
                    <a:lnTo>
                      <a:pt x="362" y="618"/>
                    </a:lnTo>
                    <a:lnTo>
                      <a:pt x="339" y="636"/>
                    </a:lnTo>
                    <a:lnTo>
                      <a:pt x="295" y="702"/>
                    </a:lnTo>
                    <a:lnTo>
                      <a:pt x="278" y="723"/>
                    </a:lnTo>
                    <a:lnTo>
                      <a:pt x="243" y="762"/>
                    </a:lnTo>
                    <a:lnTo>
                      <a:pt x="199" y="821"/>
                    </a:lnTo>
                    <a:lnTo>
                      <a:pt x="133" y="917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>
              <a:off x="2791440" y="2721960"/>
              <a:ext cx="1468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9360" y="2381040"/>
              <a:ext cx="125280" cy="32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49400" y="3068640"/>
              <a:ext cx="20772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81400" y="4057560"/>
              <a:ext cx="94680" cy="122760"/>
            </a:xfrm>
            <a:custGeom>
              <a:avLst/>
              <a:gdLst/>
              <a:ahLst/>
              <a:rect l="l" t="t" r="r" b="b"/>
              <a:pathLst>
                <a:path w="93" h="116">
                  <a:moveTo>
                    <a:pt x="40" y="116"/>
                  </a:moveTo>
                  <a:lnTo>
                    <a:pt x="54" y="116"/>
                  </a:lnTo>
                  <a:lnTo>
                    <a:pt x="54" y="15"/>
                  </a:lnTo>
                  <a:lnTo>
                    <a:pt x="93" y="15"/>
                  </a:lnTo>
                  <a:lnTo>
                    <a:pt x="9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0" y="15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61320" y="4108320"/>
              <a:ext cx="106560" cy="12564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0" y="60"/>
                  </a:move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2" y="87"/>
                  </a:lnTo>
                  <a:lnTo>
                    <a:pt x="5" y="90"/>
                  </a:lnTo>
                  <a:lnTo>
                    <a:pt x="5" y="92"/>
                  </a:lnTo>
                  <a:lnTo>
                    <a:pt x="9" y="92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4" y="104"/>
                  </a:lnTo>
                  <a:lnTo>
                    <a:pt x="16" y="104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19" y="113"/>
                  </a:lnTo>
                  <a:lnTo>
                    <a:pt x="23" y="113"/>
                  </a:lnTo>
                  <a:lnTo>
                    <a:pt x="25" y="113"/>
                  </a:lnTo>
                  <a:lnTo>
                    <a:pt x="28" y="115"/>
                  </a:lnTo>
                  <a:lnTo>
                    <a:pt x="28" y="119"/>
                  </a:lnTo>
                  <a:lnTo>
                    <a:pt x="30" y="119"/>
                  </a:lnTo>
                  <a:lnTo>
                    <a:pt x="34" y="119"/>
                  </a:lnTo>
                  <a:lnTo>
                    <a:pt x="37" y="119"/>
                  </a:lnTo>
                  <a:lnTo>
                    <a:pt x="39" y="119"/>
                  </a:lnTo>
                  <a:lnTo>
                    <a:pt x="42" y="122"/>
                  </a:lnTo>
                  <a:lnTo>
                    <a:pt x="44" y="122"/>
                  </a:lnTo>
                  <a:lnTo>
                    <a:pt x="48" y="122"/>
                  </a:lnTo>
                  <a:lnTo>
                    <a:pt x="51" y="122"/>
                  </a:lnTo>
                  <a:lnTo>
                    <a:pt x="53" y="122"/>
                  </a:lnTo>
                  <a:lnTo>
                    <a:pt x="56" y="122"/>
                  </a:lnTo>
                  <a:lnTo>
                    <a:pt x="59" y="122"/>
                  </a:lnTo>
                  <a:lnTo>
                    <a:pt x="62" y="122"/>
                  </a:lnTo>
                  <a:lnTo>
                    <a:pt x="65" y="122"/>
                  </a:lnTo>
                  <a:lnTo>
                    <a:pt x="68" y="119"/>
                  </a:lnTo>
                  <a:lnTo>
                    <a:pt x="73" y="119"/>
                  </a:lnTo>
                  <a:lnTo>
                    <a:pt x="76" y="119"/>
                  </a:lnTo>
                  <a:lnTo>
                    <a:pt x="79" y="119"/>
                  </a:lnTo>
                  <a:lnTo>
                    <a:pt x="82" y="115"/>
                  </a:lnTo>
                  <a:lnTo>
                    <a:pt x="84" y="113"/>
                  </a:lnTo>
                  <a:lnTo>
                    <a:pt x="88" y="113"/>
                  </a:lnTo>
                  <a:lnTo>
                    <a:pt x="91" y="110"/>
                  </a:lnTo>
                  <a:lnTo>
                    <a:pt x="91" y="106"/>
                  </a:lnTo>
                  <a:lnTo>
                    <a:pt x="93" y="104"/>
                  </a:lnTo>
                  <a:lnTo>
                    <a:pt x="96" y="104"/>
                  </a:lnTo>
                  <a:lnTo>
                    <a:pt x="96" y="101"/>
                  </a:lnTo>
                  <a:lnTo>
                    <a:pt x="98" y="99"/>
                  </a:lnTo>
                  <a:lnTo>
                    <a:pt x="98" y="92"/>
                  </a:lnTo>
                  <a:lnTo>
                    <a:pt x="102" y="92"/>
                  </a:lnTo>
                  <a:lnTo>
                    <a:pt x="105" y="90"/>
                  </a:lnTo>
                  <a:lnTo>
                    <a:pt x="105" y="87"/>
                  </a:lnTo>
                  <a:lnTo>
                    <a:pt x="105" y="83"/>
                  </a:lnTo>
                  <a:lnTo>
                    <a:pt x="105" y="81"/>
                  </a:lnTo>
                  <a:lnTo>
                    <a:pt x="105" y="78"/>
                  </a:lnTo>
                  <a:lnTo>
                    <a:pt x="105" y="72"/>
                  </a:lnTo>
                  <a:lnTo>
                    <a:pt x="107" y="72"/>
                  </a:lnTo>
                  <a:lnTo>
                    <a:pt x="107" y="67"/>
                  </a:lnTo>
                  <a:lnTo>
                    <a:pt x="107" y="63"/>
                  </a:lnTo>
                  <a:lnTo>
                    <a:pt x="107" y="60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49"/>
                  </a:lnTo>
                  <a:lnTo>
                    <a:pt x="105" y="49"/>
                  </a:lnTo>
                  <a:lnTo>
                    <a:pt x="105" y="44"/>
                  </a:lnTo>
                  <a:lnTo>
                    <a:pt x="105" y="40"/>
                  </a:lnTo>
                  <a:lnTo>
                    <a:pt x="105" y="37"/>
                  </a:lnTo>
                  <a:lnTo>
                    <a:pt x="105" y="35"/>
                  </a:lnTo>
                  <a:lnTo>
                    <a:pt x="105" y="32"/>
                  </a:lnTo>
                  <a:lnTo>
                    <a:pt x="102" y="28"/>
                  </a:lnTo>
                  <a:lnTo>
                    <a:pt x="98" y="28"/>
                  </a:lnTo>
                  <a:lnTo>
                    <a:pt x="98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6" y="17"/>
                  </a:lnTo>
                  <a:lnTo>
                    <a:pt x="93" y="17"/>
                  </a:lnTo>
                  <a:lnTo>
                    <a:pt x="91" y="14"/>
                  </a:lnTo>
                  <a:lnTo>
                    <a:pt x="91" y="12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2" y="5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3" y="3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16" y="60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9" y="40"/>
                  </a:lnTo>
                  <a:lnTo>
                    <a:pt x="19" y="37"/>
                  </a:lnTo>
                  <a:lnTo>
                    <a:pt x="23" y="35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4" y="19"/>
                  </a:lnTo>
                  <a:lnTo>
                    <a:pt x="39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8" y="14"/>
                  </a:lnTo>
                  <a:lnTo>
                    <a:pt x="53" y="14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70" y="17"/>
                  </a:lnTo>
                  <a:lnTo>
                    <a:pt x="73" y="19"/>
                  </a:lnTo>
                  <a:lnTo>
                    <a:pt x="76" y="23"/>
                  </a:lnTo>
                  <a:lnTo>
                    <a:pt x="79" y="23"/>
                  </a:lnTo>
                  <a:lnTo>
                    <a:pt x="82" y="26"/>
                  </a:lnTo>
                  <a:lnTo>
                    <a:pt x="84" y="28"/>
                  </a:lnTo>
                  <a:lnTo>
                    <a:pt x="84" y="35"/>
                  </a:lnTo>
                  <a:lnTo>
                    <a:pt x="88" y="37"/>
                  </a:lnTo>
                  <a:lnTo>
                    <a:pt x="88" y="40"/>
                  </a:lnTo>
                  <a:lnTo>
                    <a:pt x="91" y="46"/>
                  </a:lnTo>
                  <a:lnTo>
                    <a:pt x="91" y="49"/>
                  </a:lnTo>
                  <a:lnTo>
                    <a:pt x="91" y="55"/>
                  </a:lnTo>
                  <a:lnTo>
                    <a:pt x="91" y="60"/>
                  </a:lnTo>
                  <a:lnTo>
                    <a:pt x="91" y="67"/>
                  </a:lnTo>
                  <a:lnTo>
                    <a:pt x="91" y="72"/>
                  </a:lnTo>
                  <a:lnTo>
                    <a:pt x="91" y="76"/>
                  </a:lnTo>
                  <a:lnTo>
                    <a:pt x="88" y="81"/>
                  </a:lnTo>
                  <a:lnTo>
                    <a:pt x="88" y="87"/>
                  </a:lnTo>
                  <a:lnTo>
                    <a:pt x="84" y="90"/>
                  </a:lnTo>
                  <a:lnTo>
                    <a:pt x="84" y="92"/>
                  </a:lnTo>
                  <a:lnTo>
                    <a:pt x="82" y="95"/>
                  </a:lnTo>
                  <a:lnTo>
                    <a:pt x="79" y="99"/>
                  </a:lnTo>
                  <a:lnTo>
                    <a:pt x="76" y="101"/>
                  </a:lnTo>
                  <a:lnTo>
                    <a:pt x="73" y="104"/>
                  </a:lnTo>
                  <a:lnTo>
                    <a:pt x="70" y="104"/>
                  </a:lnTo>
                  <a:lnTo>
                    <a:pt x="65" y="104"/>
                  </a:lnTo>
                  <a:lnTo>
                    <a:pt x="62" y="106"/>
                  </a:lnTo>
                  <a:lnTo>
                    <a:pt x="59" y="106"/>
                  </a:lnTo>
                  <a:lnTo>
                    <a:pt x="53" y="106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2" y="104"/>
                  </a:lnTo>
                  <a:lnTo>
                    <a:pt x="39" y="104"/>
                  </a:lnTo>
                  <a:lnTo>
                    <a:pt x="34" y="104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8" y="95"/>
                  </a:lnTo>
                  <a:lnTo>
                    <a:pt x="25" y="92"/>
                  </a:lnTo>
                  <a:lnTo>
                    <a:pt x="23" y="90"/>
                  </a:lnTo>
                  <a:lnTo>
                    <a:pt x="19" y="87"/>
                  </a:lnTo>
                  <a:lnTo>
                    <a:pt x="19" y="81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6" y="67"/>
                  </a:lnTo>
                  <a:lnTo>
                    <a:pt x="16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9080" y="4161960"/>
              <a:ext cx="88560" cy="12924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0" y="82"/>
                  </a:moveTo>
                  <a:lnTo>
                    <a:pt x="0" y="85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4" y="100"/>
                  </a:lnTo>
                  <a:lnTo>
                    <a:pt x="4" y="103"/>
                  </a:lnTo>
                  <a:lnTo>
                    <a:pt x="9" y="105"/>
                  </a:lnTo>
                  <a:lnTo>
                    <a:pt x="9" y="112"/>
                  </a:lnTo>
                  <a:lnTo>
                    <a:pt x="12" y="114"/>
                  </a:lnTo>
                  <a:lnTo>
                    <a:pt x="14" y="114"/>
                  </a:lnTo>
                  <a:lnTo>
                    <a:pt x="18" y="117"/>
                  </a:lnTo>
                  <a:lnTo>
                    <a:pt x="21" y="119"/>
                  </a:lnTo>
                  <a:lnTo>
                    <a:pt x="26" y="119"/>
                  </a:lnTo>
                  <a:lnTo>
                    <a:pt x="32" y="123"/>
                  </a:lnTo>
                  <a:lnTo>
                    <a:pt x="35" y="123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51" y="123"/>
                  </a:lnTo>
                  <a:lnTo>
                    <a:pt x="54" y="123"/>
                  </a:lnTo>
                  <a:lnTo>
                    <a:pt x="58" y="123"/>
                  </a:lnTo>
                  <a:lnTo>
                    <a:pt x="63" y="119"/>
                  </a:lnTo>
                  <a:lnTo>
                    <a:pt x="69" y="119"/>
                  </a:lnTo>
                  <a:lnTo>
                    <a:pt x="72" y="117"/>
                  </a:lnTo>
                  <a:lnTo>
                    <a:pt x="74" y="117"/>
                  </a:lnTo>
                  <a:lnTo>
                    <a:pt x="77" y="114"/>
                  </a:lnTo>
                  <a:lnTo>
                    <a:pt x="79" y="112"/>
                  </a:lnTo>
                  <a:lnTo>
                    <a:pt x="83" y="108"/>
                  </a:lnTo>
                  <a:lnTo>
                    <a:pt x="83" y="105"/>
                  </a:lnTo>
                  <a:lnTo>
                    <a:pt x="86" y="103"/>
                  </a:lnTo>
                  <a:lnTo>
                    <a:pt x="86" y="100"/>
                  </a:lnTo>
                  <a:lnTo>
                    <a:pt x="86" y="94"/>
                  </a:lnTo>
                  <a:lnTo>
                    <a:pt x="88" y="91"/>
                  </a:lnTo>
                  <a:lnTo>
                    <a:pt x="88" y="85"/>
                  </a:lnTo>
                  <a:lnTo>
                    <a:pt x="88" y="82"/>
                  </a:lnTo>
                  <a:lnTo>
                    <a:pt x="88" y="80"/>
                  </a:lnTo>
                  <a:lnTo>
                    <a:pt x="86" y="76"/>
                  </a:lnTo>
                  <a:lnTo>
                    <a:pt x="86" y="73"/>
                  </a:lnTo>
                  <a:lnTo>
                    <a:pt x="83" y="68"/>
                  </a:lnTo>
                  <a:lnTo>
                    <a:pt x="79" y="64"/>
                  </a:lnTo>
                  <a:lnTo>
                    <a:pt x="77" y="62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69" y="59"/>
                  </a:lnTo>
                  <a:lnTo>
                    <a:pt x="63" y="59"/>
                  </a:lnTo>
                  <a:lnTo>
                    <a:pt x="60" y="55"/>
                  </a:lnTo>
                  <a:lnTo>
                    <a:pt x="58" y="53"/>
                  </a:lnTo>
                  <a:lnTo>
                    <a:pt x="51" y="53"/>
                  </a:lnTo>
                  <a:lnTo>
                    <a:pt x="49" y="53"/>
                  </a:lnTo>
                  <a:lnTo>
                    <a:pt x="46" y="53"/>
                  </a:lnTo>
                  <a:lnTo>
                    <a:pt x="40" y="53"/>
                  </a:lnTo>
                  <a:lnTo>
                    <a:pt x="37" y="50"/>
                  </a:lnTo>
                  <a:lnTo>
                    <a:pt x="35" y="50"/>
                  </a:lnTo>
                  <a:lnTo>
                    <a:pt x="32" y="48"/>
                  </a:lnTo>
                  <a:lnTo>
                    <a:pt x="29" y="48"/>
                  </a:lnTo>
                  <a:lnTo>
                    <a:pt x="26" y="44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18" y="39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6" y="18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5" y="16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3" y="18"/>
                  </a:lnTo>
                  <a:lnTo>
                    <a:pt x="63" y="21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69" y="27"/>
                  </a:lnTo>
                  <a:lnTo>
                    <a:pt x="69" y="30"/>
                  </a:lnTo>
                  <a:lnTo>
                    <a:pt x="69" y="32"/>
                  </a:lnTo>
                  <a:lnTo>
                    <a:pt x="69" y="36"/>
                  </a:lnTo>
                  <a:lnTo>
                    <a:pt x="69" y="39"/>
                  </a:lnTo>
                  <a:lnTo>
                    <a:pt x="86" y="39"/>
                  </a:lnTo>
                  <a:lnTo>
                    <a:pt x="86" y="32"/>
                  </a:lnTo>
                  <a:lnTo>
                    <a:pt x="86" y="30"/>
                  </a:lnTo>
                  <a:lnTo>
                    <a:pt x="83" y="25"/>
                  </a:lnTo>
                  <a:lnTo>
                    <a:pt x="83" y="21"/>
                  </a:lnTo>
                  <a:lnTo>
                    <a:pt x="79" y="18"/>
                  </a:lnTo>
                  <a:lnTo>
                    <a:pt x="79" y="16"/>
                  </a:lnTo>
                  <a:lnTo>
                    <a:pt x="77" y="12"/>
                  </a:lnTo>
                  <a:lnTo>
                    <a:pt x="74" y="12"/>
                  </a:lnTo>
                  <a:lnTo>
                    <a:pt x="72" y="9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4" y="9"/>
                  </a:lnTo>
                  <a:lnTo>
                    <a:pt x="12" y="12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9" y="50"/>
                  </a:lnTo>
                  <a:lnTo>
                    <a:pt x="9" y="53"/>
                  </a:lnTo>
                  <a:lnTo>
                    <a:pt x="12" y="55"/>
                  </a:lnTo>
                  <a:lnTo>
                    <a:pt x="14" y="59"/>
                  </a:lnTo>
                  <a:lnTo>
                    <a:pt x="18" y="59"/>
                  </a:lnTo>
                  <a:lnTo>
                    <a:pt x="21" y="62"/>
                  </a:lnTo>
                  <a:lnTo>
                    <a:pt x="26" y="62"/>
                  </a:lnTo>
                  <a:lnTo>
                    <a:pt x="29" y="64"/>
                  </a:lnTo>
                  <a:lnTo>
                    <a:pt x="32" y="64"/>
                  </a:lnTo>
                  <a:lnTo>
                    <a:pt x="37" y="64"/>
                  </a:lnTo>
                  <a:lnTo>
                    <a:pt x="40" y="68"/>
                  </a:lnTo>
                  <a:lnTo>
                    <a:pt x="46" y="68"/>
                  </a:lnTo>
                  <a:lnTo>
                    <a:pt x="49" y="68"/>
                  </a:lnTo>
                  <a:lnTo>
                    <a:pt x="51" y="71"/>
                  </a:lnTo>
                  <a:lnTo>
                    <a:pt x="54" y="71"/>
                  </a:lnTo>
                  <a:lnTo>
                    <a:pt x="58" y="73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9" y="76"/>
                  </a:lnTo>
                  <a:lnTo>
                    <a:pt x="69" y="80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4" y="85"/>
                  </a:lnTo>
                  <a:lnTo>
                    <a:pt x="74" y="87"/>
                  </a:lnTo>
                  <a:lnTo>
                    <a:pt x="74" y="91"/>
                  </a:lnTo>
                  <a:lnTo>
                    <a:pt x="74" y="94"/>
                  </a:lnTo>
                  <a:lnTo>
                    <a:pt x="72" y="94"/>
                  </a:lnTo>
                  <a:lnTo>
                    <a:pt x="72" y="96"/>
                  </a:lnTo>
                  <a:lnTo>
                    <a:pt x="69" y="100"/>
                  </a:lnTo>
                  <a:lnTo>
                    <a:pt x="69" y="103"/>
                  </a:lnTo>
                  <a:lnTo>
                    <a:pt x="65" y="105"/>
                  </a:lnTo>
                  <a:lnTo>
                    <a:pt x="63" y="105"/>
                  </a:lnTo>
                  <a:lnTo>
                    <a:pt x="58" y="105"/>
                  </a:lnTo>
                  <a:lnTo>
                    <a:pt x="58" y="108"/>
                  </a:lnTo>
                  <a:lnTo>
                    <a:pt x="54" y="108"/>
                  </a:lnTo>
                  <a:lnTo>
                    <a:pt x="51" y="108"/>
                  </a:lnTo>
                  <a:lnTo>
                    <a:pt x="49" y="112"/>
                  </a:lnTo>
                  <a:lnTo>
                    <a:pt x="46" y="112"/>
                  </a:lnTo>
                  <a:lnTo>
                    <a:pt x="40" y="112"/>
                  </a:lnTo>
                  <a:lnTo>
                    <a:pt x="37" y="108"/>
                  </a:lnTo>
                  <a:lnTo>
                    <a:pt x="35" y="108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5"/>
                  </a:lnTo>
                  <a:lnTo>
                    <a:pt x="23" y="103"/>
                  </a:lnTo>
                  <a:lnTo>
                    <a:pt x="21" y="100"/>
                  </a:lnTo>
                  <a:lnTo>
                    <a:pt x="18" y="96"/>
                  </a:lnTo>
                  <a:lnTo>
                    <a:pt x="18" y="94"/>
                  </a:lnTo>
                  <a:lnTo>
                    <a:pt x="14" y="91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4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39240" y="4212000"/>
              <a:ext cx="88560" cy="12276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0" y="71"/>
                  </a:move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2" y="89"/>
                  </a:lnTo>
                  <a:lnTo>
                    <a:pt x="2" y="92"/>
                  </a:lnTo>
                  <a:lnTo>
                    <a:pt x="2" y="96"/>
                  </a:lnTo>
                  <a:lnTo>
                    <a:pt x="2" y="98"/>
                  </a:lnTo>
                  <a:lnTo>
                    <a:pt x="6" y="101"/>
                  </a:lnTo>
                  <a:lnTo>
                    <a:pt x="9" y="103"/>
                  </a:lnTo>
                  <a:lnTo>
                    <a:pt x="9" y="107"/>
                  </a:lnTo>
                  <a:lnTo>
                    <a:pt x="9" y="110"/>
                  </a:lnTo>
                  <a:lnTo>
                    <a:pt x="11" y="110"/>
                  </a:lnTo>
                  <a:lnTo>
                    <a:pt x="14" y="110"/>
                  </a:lnTo>
                  <a:lnTo>
                    <a:pt x="14" y="112"/>
                  </a:lnTo>
                  <a:lnTo>
                    <a:pt x="16" y="116"/>
                  </a:lnTo>
                  <a:lnTo>
                    <a:pt x="20" y="116"/>
                  </a:lnTo>
                  <a:lnTo>
                    <a:pt x="23" y="116"/>
                  </a:lnTo>
                  <a:lnTo>
                    <a:pt x="25" y="116"/>
                  </a:lnTo>
                  <a:lnTo>
                    <a:pt x="25" y="119"/>
                  </a:lnTo>
                  <a:lnTo>
                    <a:pt x="32" y="119"/>
                  </a:lnTo>
                  <a:lnTo>
                    <a:pt x="34" y="119"/>
                  </a:lnTo>
                  <a:lnTo>
                    <a:pt x="37" y="119"/>
                  </a:lnTo>
                  <a:lnTo>
                    <a:pt x="42" y="119"/>
                  </a:lnTo>
                  <a:lnTo>
                    <a:pt x="46" y="119"/>
                  </a:lnTo>
                  <a:lnTo>
                    <a:pt x="48" y="119"/>
                  </a:lnTo>
                  <a:lnTo>
                    <a:pt x="51" y="119"/>
                  </a:lnTo>
                  <a:lnTo>
                    <a:pt x="56" y="119"/>
                  </a:lnTo>
                  <a:lnTo>
                    <a:pt x="60" y="116"/>
                  </a:lnTo>
                  <a:lnTo>
                    <a:pt x="62" y="116"/>
                  </a:lnTo>
                  <a:lnTo>
                    <a:pt x="65" y="116"/>
                  </a:lnTo>
                  <a:lnTo>
                    <a:pt x="67" y="116"/>
                  </a:lnTo>
                  <a:lnTo>
                    <a:pt x="67" y="112"/>
                  </a:lnTo>
                  <a:lnTo>
                    <a:pt x="71" y="112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6" y="107"/>
                  </a:lnTo>
                  <a:lnTo>
                    <a:pt x="79" y="103"/>
                  </a:lnTo>
                  <a:lnTo>
                    <a:pt x="79" y="101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5" y="92"/>
                  </a:lnTo>
                  <a:lnTo>
                    <a:pt x="85" y="89"/>
                  </a:lnTo>
                  <a:lnTo>
                    <a:pt x="85" y="87"/>
                  </a:lnTo>
                  <a:lnTo>
                    <a:pt x="85" y="80"/>
                  </a:lnTo>
                  <a:lnTo>
                    <a:pt x="88" y="80"/>
                  </a:lnTo>
                  <a:lnTo>
                    <a:pt x="88" y="78"/>
                  </a:lnTo>
                  <a:lnTo>
                    <a:pt x="88" y="75"/>
                  </a:lnTo>
                  <a:lnTo>
                    <a:pt x="88" y="71"/>
                  </a:lnTo>
                  <a:lnTo>
                    <a:pt x="88" y="0"/>
                  </a:lnTo>
                  <a:lnTo>
                    <a:pt x="74" y="0"/>
                  </a:lnTo>
                  <a:lnTo>
                    <a:pt x="74" y="71"/>
                  </a:lnTo>
                  <a:lnTo>
                    <a:pt x="74" y="75"/>
                  </a:lnTo>
                  <a:lnTo>
                    <a:pt x="74" y="80"/>
                  </a:lnTo>
                  <a:lnTo>
                    <a:pt x="71" y="84"/>
                  </a:lnTo>
                  <a:lnTo>
                    <a:pt x="71" y="87"/>
                  </a:lnTo>
                  <a:lnTo>
                    <a:pt x="71" y="89"/>
                  </a:lnTo>
                  <a:lnTo>
                    <a:pt x="67" y="92"/>
                  </a:lnTo>
                  <a:lnTo>
                    <a:pt x="67" y="96"/>
                  </a:lnTo>
                  <a:lnTo>
                    <a:pt x="65" y="96"/>
                  </a:lnTo>
                  <a:lnTo>
                    <a:pt x="62" y="98"/>
                  </a:lnTo>
                  <a:lnTo>
                    <a:pt x="62" y="101"/>
                  </a:lnTo>
                  <a:lnTo>
                    <a:pt x="60" y="101"/>
                  </a:lnTo>
                  <a:lnTo>
                    <a:pt x="56" y="101"/>
                  </a:lnTo>
                  <a:lnTo>
                    <a:pt x="53" y="103"/>
                  </a:lnTo>
                  <a:lnTo>
                    <a:pt x="51" y="103"/>
                  </a:lnTo>
                  <a:lnTo>
                    <a:pt x="48" y="103"/>
                  </a:lnTo>
                  <a:lnTo>
                    <a:pt x="46" y="103"/>
                  </a:lnTo>
                  <a:lnTo>
                    <a:pt x="39" y="103"/>
                  </a:lnTo>
                  <a:lnTo>
                    <a:pt x="37" y="103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28" y="101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9"/>
                  </a:lnTo>
                  <a:lnTo>
                    <a:pt x="14" y="87"/>
                  </a:lnTo>
                  <a:lnTo>
                    <a:pt x="14" y="84"/>
                  </a:lnTo>
                  <a:lnTo>
                    <a:pt x="14" y="80"/>
                  </a:lnTo>
                  <a:lnTo>
                    <a:pt x="14" y="75"/>
                  </a:lnTo>
                  <a:lnTo>
                    <a:pt x="14" y="7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1000" y="4227840"/>
              <a:ext cx="84960" cy="122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0" y="117"/>
                  </a:moveTo>
                  <a:lnTo>
                    <a:pt x="17" y="117"/>
                  </a:lnTo>
                  <a:lnTo>
                    <a:pt x="17" y="68"/>
                  </a:lnTo>
                  <a:lnTo>
                    <a:pt x="40" y="68"/>
                  </a:lnTo>
                  <a:lnTo>
                    <a:pt x="46" y="68"/>
                  </a:lnTo>
                  <a:lnTo>
                    <a:pt x="49" y="68"/>
                  </a:lnTo>
                  <a:lnTo>
                    <a:pt x="51" y="68"/>
                  </a:lnTo>
                  <a:lnTo>
                    <a:pt x="56" y="68"/>
                  </a:lnTo>
                  <a:lnTo>
                    <a:pt x="63" y="68"/>
                  </a:lnTo>
                  <a:lnTo>
                    <a:pt x="65" y="64"/>
                  </a:lnTo>
                  <a:lnTo>
                    <a:pt x="68" y="62"/>
                  </a:lnTo>
                  <a:lnTo>
                    <a:pt x="70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0"/>
                  </a:lnTo>
                  <a:lnTo>
                    <a:pt x="79" y="44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82" y="36"/>
                  </a:lnTo>
                  <a:lnTo>
                    <a:pt x="82" y="32"/>
                  </a:lnTo>
                  <a:lnTo>
                    <a:pt x="82" y="30"/>
                  </a:lnTo>
                  <a:lnTo>
                    <a:pt x="82" y="27"/>
                  </a:lnTo>
                  <a:lnTo>
                    <a:pt x="82" y="25"/>
                  </a:lnTo>
                  <a:lnTo>
                    <a:pt x="79" y="25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9" y="16"/>
                  </a:lnTo>
                  <a:lnTo>
                    <a:pt x="77" y="12"/>
                  </a:lnTo>
                  <a:lnTo>
                    <a:pt x="74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17" y="55"/>
                  </a:lnTo>
                  <a:lnTo>
                    <a:pt x="17" y="16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60" y="18"/>
                  </a:lnTo>
                  <a:lnTo>
                    <a:pt x="63" y="18"/>
                  </a:lnTo>
                  <a:lnTo>
                    <a:pt x="63" y="21"/>
                  </a:lnTo>
                  <a:lnTo>
                    <a:pt x="63" y="25"/>
                  </a:lnTo>
                  <a:lnTo>
                    <a:pt x="65" y="25"/>
                  </a:lnTo>
                  <a:lnTo>
                    <a:pt x="65" y="27"/>
                  </a:lnTo>
                  <a:lnTo>
                    <a:pt x="65" y="30"/>
                  </a:lnTo>
                  <a:lnTo>
                    <a:pt x="68" y="32"/>
                  </a:lnTo>
                  <a:lnTo>
                    <a:pt x="68" y="36"/>
                  </a:lnTo>
                  <a:lnTo>
                    <a:pt x="65" y="39"/>
                  </a:lnTo>
                  <a:lnTo>
                    <a:pt x="65" y="41"/>
                  </a:lnTo>
                  <a:lnTo>
                    <a:pt x="65" y="44"/>
                  </a:lnTo>
                  <a:lnTo>
                    <a:pt x="63" y="44"/>
                  </a:lnTo>
                  <a:lnTo>
                    <a:pt x="63" y="48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6" y="50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9" y="55"/>
                  </a:lnTo>
                  <a:lnTo>
                    <a:pt x="46" y="55"/>
                  </a:lnTo>
                  <a:lnTo>
                    <a:pt x="42" y="55"/>
                  </a:lnTo>
                  <a:lnTo>
                    <a:pt x="17" y="5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6920" y="4256280"/>
              <a:ext cx="85680" cy="11988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0" y="113"/>
                  </a:moveTo>
                  <a:lnTo>
                    <a:pt x="14" y="113"/>
                  </a:lnTo>
                  <a:lnTo>
                    <a:pt x="14" y="67"/>
                  </a:lnTo>
                  <a:lnTo>
                    <a:pt x="38" y="67"/>
                  </a:lnTo>
                  <a:lnTo>
                    <a:pt x="42" y="67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4" y="67"/>
                  </a:lnTo>
                  <a:lnTo>
                    <a:pt x="56" y="64"/>
                  </a:lnTo>
                  <a:lnTo>
                    <a:pt x="61" y="64"/>
                  </a:lnTo>
                  <a:lnTo>
                    <a:pt x="61" y="60"/>
                  </a:lnTo>
                  <a:lnTo>
                    <a:pt x="68" y="60"/>
                  </a:lnTo>
                  <a:lnTo>
                    <a:pt x="70" y="58"/>
                  </a:lnTo>
                  <a:lnTo>
                    <a:pt x="73" y="55"/>
                  </a:lnTo>
                  <a:lnTo>
                    <a:pt x="73" y="53"/>
                  </a:lnTo>
                  <a:lnTo>
                    <a:pt x="75" y="53"/>
                  </a:lnTo>
                  <a:lnTo>
                    <a:pt x="78" y="49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82" y="35"/>
                  </a:lnTo>
                  <a:lnTo>
                    <a:pt x="82" y="32"/>
                  </a:lnTo>
                  <a:lnTo>
                    <a:pt x="82" y="28"/>
                  </a:lnTo>
                  <a:lnTo>
                    <a:pt x="78" y="28"/>
                  </a:lnTo>
                  <a:lnTo>
                    <a:pt x="78" y="23"/>
                  </a:lnTo>
                  <a:lnTo>
                    <a:pt x="78" y="21"/>
                  </a:lnTo>
                  <a:lnTo>
                    <a:pt x="78" y="17"/>
                  </a:lnTo>
                  <a:lnTo>
                    <a:pt x="78" y="14"/>
                  </a:lnTo>
                  <a:lnTo>
                    <a:pt x="75" y="14"/>
                  </a:lnTo>
                  <a:lnTo>
                    <a:pt x="75" y="12"/>
                  </a:lnTo>
                  <a:lnTo>
                    <a:pt x="73" y="9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1" y="3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4" y="53"/>
                  </a:lnTo>
                  <a:lnTo>
                    <a:pt x="14" y="14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4" y="23"/>
                  </a:lnTo>
                  <a:lnTo>
                    <a:pt x="64" y="26"/>
                  </a:lnTo>
                  <a:lnTo>
                    <a:pt x="64" y="28"/>
                  </a:lnTo>
                  <a:lnTo>
                    <a:pt x="64" y="32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4" y="40"/>
                  </a:lnTo>
                  <a:lnTo>
                    <a:pt x="61" y="44"/>
                  </a:lnTo>
                  <a:lnTo>
                    <a:pt x="61" y="46"/>
                  </a:lnTo>
                  <a:lnTo>
                    <a:pt x="59" y="46"/>
                  </a:lnTo>
                  <a:lnTo>
                    <a:pt x="56" y="46"/>
                  </a:lnTo>
                  <a:lnTo>
                    <a:pt x="56" y="49"/>
                  </a:lnTo>
                  <a:lnTo>
                    <a:pt x="54" y="49"/>
                  </a:lnTo>
                  <a:lnTo>
                    <a:pt x="50" y="49"/>
                  </a:lnTo>
                  <a:lnTo>
                    <a:pt x="50" y="53"/>
                  </a:lnTo>
                  <a:lnTo>
                    <a:pt x="45" y="53"/>
                  </a:lnTo>
                  <a:lnTo>
                    <a:pt x="42" y="53"/>
                  </a:lnTo>
                  <a:lnTo>
                    <a:pt x="14" y="5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94560" y="4272120"/>
              <a:ext cx="106560" cy="125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0" y="62"/>
                  </a:moveTo>
                  <a:lnTo>
                    <a:pt x="0" y="64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2" y="87"/>
                  </a:lnTo>
                  <a:lnTo>
                    <a:pt x="6" y="90"/>
                  </a:lnTo>
                  <a:lnTo>
                    <a:pt x="6" y="94"/>
                  </a:lnTo>
                  <a:lnTo>
                    <a:pt x="9" y="94"/>
                  </a:lnTo>
                  <a:lnTo>
                    <a:pt x="9" y="96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4" y="105"/>
                  </a:lnTo>
                  <a:lnTo>
                    <a:pt x="18" y="108"/>
                  </a:lnTo>
                  <a:lnTo>
                    <a:pt x="20" y="110"/>
                  </a:lnTo>
                  <a:lnTo>
                    <a:pt x="23" y="114"/>
                  </a:lnTo>
                  <a:lnTo>
                    <a:pt x="25" y="114"/>
                  </a:lnTo>
                  <a:lnTo>
                    <a:pt x="28" y="117"/>
                  </a:lnTo>
                  <a:lnTo>
                    <a:pt x="32" y="119"/>
                  </a:lnTo>
                  <a:lnTo>
                    <a:pt x="34" y="119"/>
                  </a:lnTo>
                  <a:lnTo>
                    <a:pt x="37" y="119"/>
                  </a:lnTo>
                  <a:lnTo>
                    <a:pt x="42" y="119"/>
                  </a:lnTo>
                  <a:lnTo>
                    <a:pt x="48" y="119"/>
                  </a:lnTo>
                  <a:lnTo>
                    <a:pt x="48" y="122"/>
                  </a:lnTo>
                  <a:lnTo>
                    <a:pt x="53" y="122"/>
                  </a:lnTo>
                  <a:lnTo>
                    <a:pt x="57" y="122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71" y="119"/>
                  </a:lnTo>
                  <a:lnTo>
                    <a:pt x="74" y="119"/>
                  </a:lnTo>
                  <a:lnTo>
                    <a:pt x="76" y="117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5" y="114"/>
                  </a:lnTo>
                  <a:lnTo>
                    <a:pt x="85" y="110"/>
                  </a:lnTo>
                  <a:lnTo>
                    <a:pt x="88" y="110"/>
                  </a:lnTo>
                  <a:lnTo>
                    <a:pt x="91" y="108"/>
                  </a:lnTo>
                  <a:lnTo>
                    <a:pt x="91" y="105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97" y="99"/>
                  </a:lnTo>
                  <a:lnTo>
                    <a:pt x="97" y="96"/>
                  </a:lnTo>
                  <a:lnTo>
                    <a:pt x="99" y="94"/>
                  </a:lnTo>
                  <a:lnTo>
                    <a:pt x="102" y="90"/>
                  </a:lnTo>
                  <a:lnTo>
                    <a:pt x="102" y="87"/>
                  </a:lnTo>
                  <a:lnTo>
                    <a:pt x="102" y="85"/>
                  </a:lnTo>
                  <a:lnTo>
                    <a:pt x="102" y="82"/>
                  </a:lnTo>
                  <a:lnTo>
                    <a:pt x="102" y="78"/>
                  </a:lnTo>
                  <a:lnTo>
                    <a:pt x="105" y="73"/>
                  </a:lnTo>
                  <a:lnTo>
                    <a:pt x="105" y="71"/>
                  </a:lnTo>
                  <a:lnTo>
                    <a:pt x="105" y="67"/>
                  </a:lnTo>
                  <a:lnTo>
                    <a:pt x="105" y="64"/>
                  </a:lnTo>
                  <a:lnTo>
                    <a:pt x="105" y="62"/>
                  </a:lnTo>
                  <a:lnTo>
                    <a:pt x="105" y="55"/>
                  </a:lnTo>
                  <a:lnTo>
                    <a:pt x="105" y="50"/>
                  </a:lnTo>
                  <a:lnTo>
                    <a:pt x="105" y="46"/>
                  </a:lnTo>
                  <a:lnTo>
                    <a:pt x="102" y="44"/>
                  </a:lnTo>
                  <a:lnTo>
                    <a:pt x="102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2" y="32"/>
                  </a:lnTo>
                  <a:lnTo>
                    <a:pt x="99" y="30"/>
                  </a:lnTo>
                  <a:lnTo>
                    <a:pt x="97" y="23"/>
                  </a:lnTo>
                  <a:lnTo>
                    <a:pt x="93" y="21"/>
                  </a:lnTo>
                  <a:lnTo>
                    <a:pt x="93" y="18"/>
                  </a:lnTo>
                  <a:lnTo>
                    <a:pt x="91" y="18"/>
                  </a:lnTo>
                  <a:lnTo>
                    <a:pt x="91" y="14"/>
                  </a:lnTo>
                  <a:lnTo>
                    <a:pt x="88" y="12"/>
                  </a:lnTo>
                  <a:lnTo>
                    <a:pt x="85" y="9"/>
                  </a:lnTo>
                  <a:lnTo>
                    <a:pt x="82" y="9"/>
                  </a:lnTo>
                  <a:lnTo>
                    <a:pt x="79" y="7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8" y="62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20" y="41"/>
                  </a:lnTo>
                  <a:lnTo>
                    <a:pt x="20" y="35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5" y="26"/>
                  </a:lnTo>
                  <a:lnTo>
                    <a:pt x="28" y="23"/>
                  </a:lnTo>
                  <a:lnTo>
                    <a:pt x="32" y="21"/>
                  </a:lnTo>
                  <a:lnTo>
                    <a:pt x="34" y="18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2" y="14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71" y="18"/>
                  </a:lnTo>
                  <a:lnTo>
                    <a:pt x="74" y="21"/>
                  </a:lnTo>
                  <a:lnTo>
                    <a:pt x="79" y="23"/>
                  </a:lnTo>
                  <a:lnTo>
                    <a:pt x="79" y="26"/>
                  </a:lnTo>
                  <a:lnTo>
                    <a:pt x="82" y="30"/>
                  </a:lnTo>
                  <a:lnTo>
                    <a:pt x="85" y="32"/>
                  </a:lnTo>
                  <a:lnTo>
                    <a:pt x="85" y="35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91" y="50"/>
                  </a:lnTo>
                  <a:lnTo>
                    <a:pt x="91" y="55"/>
                  </a:lnTo>
                  <a:lnTo>
                    <a:pt x="91" y="62"/>
                  </a:lnTo>
                  <a:lnTo>
                    <a:pt x="91" y="67"/>
                  </a:lnTo>
                  <a:lnTo>
                    <a:pt x="91" y="71"/>
                  </a:lnTo>
                  <a:lnTo>
                    <a:pt x="88" y="76"/>
                  </a:lnTo>
                  <a:lnTo>
                    <a:pt x="88" y="82"/>
                  </a:lnTo>
                  <a:lnTo>
                    <a:pt x="85" y="85"/>
                  </a:lnTo>
                  <a:lnTo>
                    <a:pt x="85" y="87"/>
                  </a:lnTo>
                  <a:lnTo>
                    <a:pt x="82" y="94"/>
                  </a:lnTo>
                  <a:lnTo>
                    <a:pt x="79" y="96"/>
                  </a:lnTo>
                  <a:lnTo>
                    <a:pt x="79" y="99"/>
                  </a:lnTo>
                  <a:lnTo>
                    <a:pt x="74" y="99"/>
                  </a:lnTo>
                  <a:lnTo>
                    <a:pt x="71" y="101"/>
                  </a:lnTo>
                  <a:lnTo>
                    <a:pt x="67" y="105"/>
                  </a:lnTo>
                  <a:lnTo>
                    <a:pt x="65" y="105"/>
                  </a:lnTo>
                  <a:lnTo>
                    <a:pt x="62" y="105"/>
                  </a:lnTo>
                  <a:lnTo>
                    <a:pt x="57" y="108"/>
                  </a:lnTo>
                  <a:lnTo>
                    <a:pt x="53" y="108"/>
                  </a:lnTo>
                  <a:lnTo>
                    <a:pt x="48" y="108"/>
                  </a:lnTo>
                  <a:lnTo>
                    <a:pt x="46" y="105"/>
                  </a:lnTo>
                  <a:lnTo>
                    <a:pt x="42" y="105"/>
                  </a:lnTo>
                  <a:lnTo>
                    <a:pt x="37" y="105"/>
                  </a:lnTo>
                  <a:lnTo>
                    <a:pt x="34" y="101"/>
                  </a:lnTo>
                  <a:lnTo>
                    <a:pt x="32" y="99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3" y="87"/>
                  </a:lnTo>
                  <a:lnTo>
                    <a:pt x="20" y="85"/>
                  </a:lnTo>
                  <a:lnTo>
                    <a:pt x="20" y="82"/>
                  </a:lnTo>
                  <a:lnTo>
                    <a:pt x="18" y="76"/>
                  </a:lnTo>
                  <a:lnTo>
                    <a:pt x="18" y="71"/>
                  </a:lnTo>
                  <a:lnTo>
                    <a:pt x="18" y="67"/>
                  </a:lnTo>
                  <a:lnTo>
                    <a:pt x="18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63800" y="4253400"/>
              <a:ext cx="92160" cy="122760"/>
            </a:xfrm>
            <a:custGeom>
              <a:avLst/>
              <a:gdLst/>
              <a:ahLst/>
              <a:rect l="l" t="t" r="r" b="b"/>
              <a:pathLst>
                <a:path w="90" h="117">
                  <a:moveTo>
                    <a:pt x="0" y="117"/>
                  </a:moveTo>
                  <a:lnTo>
                    <a:pt x="43" y="117"/>
                  </a:lnTo>
                  <a:lnTo>
                    <a:pt x="48" y="117"/>
                  </a:lnTo>
                  <a:lnTo>
                    <a:pt x="54" y="114"/>
                  </a:lnTo>
                  <a:lnTo>
                    <a:pt x="57" y="114"/>
                  </a:lnTo>
                  <a:lnTo>
                    <a:pt x="59" y="114"/>
                  </a:lnTo>
                  <a:lnTo>
                    <a:pt x="62" y="114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8"/>
                  </a:lnTo>
                  <a:lnTo>
                    <a:pt x="73" y="105"/>
                  </a:lnTo>
                  <a:lnTo>
                    <a:pt x="76" y="103"/>
                  </a:lnTo>
                  <a:lnTo>
                    <a:pt x="76" y="99"/>
                  </a:lnTo>
                  <a:lnTo>
                    <a:pt x="78" y="96"/>
                  </a:lnTo>
                  <a:lnTo>
                    <a:pt x="82" y="94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85" y="85"/>
                  </a:lnTo>
                  <a:lnTo>
                    <a:pt x="87" y="82"/>
                  </a:lnTo>
                  <a:lnTo>
                    <a:pt x="87" y="80"/>
                  </a:lnTo>
                  <a:lnTo>
                    <a:pt x="87" y="76"/>
                  </a:lnTo>
                  <a:lnTo>
                    <a:pt x="87" y="73"/>
                  </a:lnTo>
                  <a:lnTo>
                    <a:pt x="87" y="71"/>
                  </a:lnTo>
                  <a:lnTo>
                    <a:pt x="87" y="67"/>
                  </a:lnTo>
                  <a:lnTo>
                    <a:pt x="90" y="62"/>
                  </a:lnTo>
                  <a:lnTo>
                    <a:pt x="90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7" y="48"/>
                  </a:lnTo>
                  <a:lnTo>
                    <a:pt x="87" y="44"/>
                  </a:lnTo>
                  <a:lnTo>
                    <a:pt x="87" y="41"/>
                  </a:lnTo>
                  <a:lnTo>
                    <a:pt x="87" y="39"/>
                  </a:lnTo>
                  <a:lnTo>
                    <a:pt x="87" y="36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5" y="30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2" y="18"/>
                  </a:lnTo>
                  <a:lnTo>
                    <a:pt x="78" y="18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9" y="4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59" y="21"/>
                  </a:lnTo>
                  <a:lnTo>
                    <a:pt x="64" y="23"/>
                  </a:lnTo>
                  <a:lnTo>
                    <a:pt x="68" y="30"/>
                  </a:lnTo>
                  <a:lnTo>
                    <a:pt x="71" y="30"/>
                  </a:lnTo>
                  <a:lnTo>
                    <a:pt x="71" y="36"/>
                  </a:lnTo>
                  <a:lnTo>
                    <a:pt x="71" y="39"/>
                  </a:lnTo>
                  <a:lnTo>
                    <a:pt x="73" y="41"/>
                  </a:lnTo>
                  <a:lnTo>
                    <a:pt x="73" y="48"/>
                  </a:lnTo>
                  <a:lnTo>
                    <a:pt x="73" y="53"/>
                  </a:lnTo>
                  <a:lnTo>
                    <a:pt x="73" y="55"/>
                  </a:lnTo>
                  <a:lnTo>
                    <a:pt x="73" y="62"/>
                  </a:lnTo>
                  <a:lnTo>
                    <a:pt x="73" y="67"/>
                  </a:lnTo>
                  <a:lnTo>
                    <a:pt x="73" y="73"/>
                  </a:lnTo>
                  <a:lnTo>
                    <a:pt x="71" y="76"/>
                  </a:lnTo>
                  <a:lnTo>
                    <a:pt x="71" y="82"/>
                  </a:lnTo>
                  <a:lnTo>
                    <a:pt x="71" y="85"/>
                  </a:lnTo>
                  <a:lnTo>
                    <a:pt x="68" y="87"/>
                  </a:lnTo>
                  <a:lnTo>
                    <a:pt x="64" y="91"/>
                  </a:lnTo>
                  <a:lnTo>
                    <a:pt x="64" y="94"/>
                  </a:lnTo>
                  <a:lnTo>
                    <a:pt x="59" y="96"/>
                  </a:lnTo>
                  <a:lnTo>
                    <a:pt x="54" y="99"/>
                  </a:lnTo>
                  <a:lnTo>
                    <a:pt x="48" y="99"/>
                  </a:lnTo>
                  <a:lnTo>
                    <a:pt x="45" y="103"/>
                  </a:lnTo>
                  <a:lnTo>
                    <a:pt x="43" y="103"/>
                  </a:lnTo>
                  <a:lnTo>
                    <a:pt x="14" y="103"/>
                  </a:lnTo>
                  <a:lnTo>
                    <a:pt x="14" y="16"/>
                  </a:lnTo>
                  <a:lnTo>
                    <a:pt x="43" y="1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38200" y="4284720"/>
              <a:ext cx="94320" cy="119160"/>
            </a:xfrm>
            <a:custGeom>
              <a:avLst/>
              <a:gdLst/>
              <a:ahLst/>
              <a:rect l="l" t="t" r="r" b="b"/>
              <a:pathLst>
                <a:path w="93" h="116">
                  <a:moveTo>
                    <a:pt x="0" y="0"/>
                  </a:moveTo>
                  <a:lnTo>
                    <a:pt x="0" y="116"/>
                  </a:lnTo>
                  <a:lnTo>
                    <a:pt x="16" y="116"/>
                  </a:lnTo>
                  <a:lnTo>
                    <a:pt x="16" y="66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3" y="66"/>
                  </a:lnTo>
                  <a:lnTo>
                    <a:pt x="56" y="66"/>
                  </a:lnTo>
                  <a:lnTo>
                    <a:pt x="59" y="66"/>
                  </a:lnTo>
                  <a:lnTo>
                    <a:pt x="62" y="66"/>
                  </a:lnTo>
                  <a:lnTo>
                    <a:pt x="65" y="70"/>
                  </a:lnTo>
                  <a:lnTo>
                    <a:pt x="65" y="73"/>
                  </a:lnTo>
                  <a:lnTo>
                    <a:pt x="65" y="75"/>
                  </a:lnTo>
                  <a:lnTo>
                    <a:pt x="68" y="75"/>
                  </a:lnTo>
                  <a:lnTo>
                    <a:pt x="70" y="82"/>
                  </a:lnTo>
                  <a:lnTo>
                    <a:pt x="70" y="87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07"/>
                  </a:lnTo>
                  <a:lnTo>
                    <a:pt x="70" y="110"/>
                  </a:lnTo>
                  <a:lnTo>
                    <a:pt x="70" y="114"/>
                  </a:lnTo>
                  <a:lnTo>
                    <a:pt x="73" y="114"/>
                  </a:lnTo>
                  <a:lnTo>
                    <a:pt x="73" y="116"/>
                  </a:lnTo>
                  <a:lnTo>
                    <a:pt x="93" y="116"/>
                  </a:lnTo>
                  <a:lnTo>
                    <a:pt x="93" y="114"/>
                  </a:lnTo>
                  <a:lnTo>
                    <a:pt x="91" y="114"/>
                  </a:lnTo>
                  <a:lnTo>
                    <a:pt x="91" y="110"/>
                  </a:lnTo>
                  <a:lnTo>
                    <a:pt x="91" y="107"/>
                  </a:lnTo>
                  <a:lnTo>
                    <a:pt x="87" y="105"/>
                  </a:lnTo>
                  <a:lnTo>
                    <a:pt x="87" y="102"/>
                  </a:lnTo>
                  <a:lnTo>
                    <a:pt x="87" y="98"/>
                  </a:lnTo>
                  <a:lnTo>
                    <a:pt x="84" y="82"/>
                  </a:lnTo>
                  <a:lnTo>
                    <a:pt x="84" y="78"/>
                  </a:lnTo>
                  <a:lnTo>
                    <a:pt x="84" y="75"/>
                  </a:lnTo>
                  <a:lnTo>
                    <a:pt x="84" y="73"/>
                  </a:lnTo>
                  <a:lnTo>
                    <a:pt x="84" y="70"/>
                  </a:lnTo>
                  <a:lnTo>
                    <a:pt x="84" y="66"/>
                  </a:lnTo>
                  <a:lnTo>
                    <a:pt x="82" y="64"/>
                  </a:lnTo>
                  <a:lnTo>
                    <a:pt x="79" y="61"/>
                  </a:lnTo>
                  <a:lnTo>
                    <a:pt x="76" y="61"/>
                  </a:lnTo>
                  <a:lnTo>
                    <a:pt x="73" y="61"/>
                  </a:lnTo>
                  <a:lnTo>
                    <a:pt x="70" y="59"/>
                  </a:lnTo>
                  <a:lnTo>
                    <a:pt x="73" y="59"/>
                  </a:lnTo>
                  <a:lnTo>
                    <a:pt x="76" y="55"/>
                  </a:lnTo>
                  <a:lnTo>
                    <a:pt x="79" y="55"/>
                  </a:lnTo>
                  <a:lnTo>
                    <a:pt x="82" y="55"/>
                  </a:lnTo>
                  <a:lnTo>
                    <a:pt x="82" y="52"/>
                  </a:lnTo>
                  <a:lnTo>
                    <a:pt x="84" y="50"/>
                  </a:lnTo>
                  <a:lnTo>
                    <a:pt x="84" y="47"/>
                  </a:lnTo>
                  <a:lnTo>
                    <a:pt x="87" y="47"/>
                  </a:lnTo>
                  <a:lnTo>
                    <a:pt x="87" y="43"/>
                  </a:lnTo>
                  <a:lnTo>
                    <a:pt x="87" y="41"/>
                  </a:lnTo>
                  <a:lnTo>
                    <a:pt x="91" y="41"/>
                  </a:lnTo>
                  <a:lnTo>
                    <a:pt x="91" y="34"/>
                  </a:lnTo>
                  <a:lnTo>
                    <a:pt x="91" y="32"/>
                  </a:lnTo>
                  <a:lnTo>
                    <a:pt x="91" y="29"/>
                  </a:lnTo>
                  <a:lnTo>
                    <a:pt x="91" y="27"/>
                  </a:lnTo>
                  <a:lnTo>
                    <a:pt x="87" y="23"/>
                  </a:lnTo>
                  <a:lnTo>
                    <a:pt x="87" y="20"/>
                  </a:lnTo>
                  <a:lnTo>
                    <a:pt x="84" y="18"/>
                  </a:lnTo>
                  <a:lnTo>
                    <a:pt x="84" y="15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79" y="9"/>
                  </a:lnTo>
                  <a:lnTo>
                    <a:pt x="76" y="9"/>
                  </a:lnTo>
                  <a:lnTo>
                    <a:pt x="76" y="6"/>
                  </a:lnTo>
                  <a:lnTo>
                    <a:pt x="73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59" y="4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20"/>
                  </a:lnTo>
                  <a:lnTo>
                    <a:pt x="70" y="23"/>
                  </a:lnTo>
                  <a:lnTo>
                    <a:pt x="70" y="27"/>
                  </a:lnTo>
                  <a:lnTo>
                    <a:pt x="70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0" y="43"/>
                  </a:lnTo>
                  <a:lnTo>
                    <a:pt x="68" y="47"/>
                  </a:lnTo>
                  <a:lnTo>
                    <a:pt x="65" y="50"/>
                  </a:lnTo>
                  <a:lnTo>
                    <a:pt x="62" y="50"/>
                  </a:lnTo>
                  <a:lnTo>
                    <a:pt x="59" y="52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1" y="52"/>
                  </a:lnTo>
                  <a:lnTo>
                    <a:pt x="48" y="55"/>
                  </a:lnTo>
                  <a:lnTo>
                    <a:pt x="42" y="55"/>
                  </a:lnTo>
                  <a:lnTo>
                    <a:pt x="16" y="55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5760" y="4303440"/>
              <a:ext cx="94680" cy="11988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39" y="115"/>
                  </a:moveTo>
                  <a:lnTo>
                    <a:pt x="53" y="115"/>
                  </a:lnTo>
                  <a:lnTo>
                    <a:pt x="53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9" y="14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9000" y="4312800"/>
              <a:ext cx="103680" cy="11988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115"/>
                  </a:moveTo>
                  <a:lnTo>
                    <a:pt x="16" y="115"/>
                  </a:lnTo>
                  <a:lnTo>
                    <a:pt x="28" y="80"/>
                  </a:lnTo>
                  <a:lnTo>
                    <a:pt x="75" y="80"/>
                  </a:lnTo>
                  <a:lnTo>
                    <a:pt x="87" y="115"/>
                  </a:lnTo>
                  <a:lnTo>
                    <a:pt x="103" y="115"/>
                  </a:lnTo>
                  <a:lnTo>
                    <a:pt x="61" y="0"/>
                  </a:lnTo>
                  <a:lnTo>
                    <a:pt x="45" y="0"/>
                  </a:lnTo>
                  <a:lnTo>
                    <a:pt x="0" y="115"/>
                  </a:lnTo>
                  <a:lnTo>
                    <a:pt x="33" y="66"/>
                  </a:lnTo>
                  <a:lnTo>
                    <a:pt x="54" y="16"/>
                  </a:lnTo>
                  <a:lnTo>
                    <a:pt x="70" y="66"/>
                  </a:lnTo>
                  <a:lnTo>
                    <a:pt x="33" y="66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41760" y="4284720"/>
              <a:ext cx="88560" cy="11916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0" y="116"/>
                  </a:moveTo>
                  <a:lnTo>
                    <a:pt x="14" y="116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20" y="32"/>
                  </a:lnTo>
                  <a:lnTo>
                    <a:pt x="71" y="116"/>
                  </a:lnTo>
                  <a:lnTo>
                    <a:pt x="87" y="116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73" y="93"/>
                  </a:lnTo>
                  <a:lnTo>
                    <a:pt x="71" y="91"/>
                  </a:lnTo>
                  <a:lnTo>
                    <a:pt x="68" y="87"/>
                  </a:lnTo>
                  <a:lnTo>
                    <a:pt x="68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28600" y="2315160"/>
              <a:ext cx="991080" cy="774360"/>
            </a:xfrm>
            <a:custGeom>
              <a:avLst/>
              <a:gdLst/>
              <a:ahLst/>
              <a:rect l="l" t="t" r="r" b="b"/>
              <a:pathLst>
                <a:path w="972" h="740">
                  <a:moveTo>
                    <a:pt x="488" y="0"/>
                  </a:moveTo>
                  <a:lnTo>
                    <a:pt x="0" y="378"/>
                  </a:lnTo>
                  <a:lnTo>
                    <a:pt x="482" y="740"/>
                  </a:lnTo>
                  <a:lnTo>
                    <a:pt x="972" y="375"/>
                  </a:lnTo>
                  <a:lnTo>
                    <a:pt x="485" y="0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19680" y="4231440"/>
              <a:ext cx="88560" cy="13212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0" y="82"/>
                  </a:moveTo>
                  <a:lnTo>
                    <a:pt x="0" y="87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2" y="102"/>
                  </a:lnTo>
                  <a:lnTo>
                    <a:pt x="5" y="105"/>
                  </a:lnTo>
                  <a:lnTo>
                    <a:pt x="7" y="107"/>
                  </a:lnTo>
                  <a:lnTo>
                    <a:pt x="7" y="111"/>
                  </a:lnTo>
                  <a:lnTo>
                    <a:pt x="11" y="114"/>
                  </a:lnTo>
                  <a:lnTo>
                    <a:pt x="14" y="116"/>
                  </a:lnTo>
                  <a:lnTo>
                    <a:pt x="19" y="119"/>
                  </a:lnTo>
                  <a:lnTo>
                    <a:pt x="21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3" y="125"/>
                  </a:lnTo>
                  <a:lnTo>
                    <a:pt x="39" y="125"/>
                  </a:lnTo>
                  <a:lnTo>
                    <a:pt x="44" y="125"/>
                  </a:lnTo>
                  <a:lnTo>
                    <a:pt x="51" y="125"/>
                  </a:lnTo>
                  <a:lnTo>
                    <a:pt x="53" y="125"/>
                  </a:lnTo>
                  <a:lnTo>
                    <a:pt x="59" y="123"/>
                  </a:lnTo>
                  <a:lnTo>
                    <a:pt x="61" y="123"/>
                  </a:lnTo>
                  <a:lnTo>
                    <a:pt x="68" y="123"/>
                  </a:lnTo>
                  <a:lnTo>
                    <a:pt x="70" y="119"/>
                  </a:lnTo>
                  <a:lnTo>
                    <a:pt x="73" y="116"/>
                  </a:lnTo>
                  <a:lnTo>
                    <a:pt x="76" y="114"/>
                  </a:lnTo>
                  <a:lnTo>
                    <a:pt x="79" y="114"/>
                  </a:lnTo>
                  <a:lnTo>
                    <a:pt x="82" y="107"/>
                  </a:lnTo>
                  <a:lnTo>
                    <a:pt x="84" y="107"/>
                  </a:lnTo>
                  <a:lnTo>
                    <a:pt x="84" y="102"/>
                  </a:lnTo>
                  <a:lnTo>
                    <a:pt x="87" y="96"/>
                  </a:lnTo>
                  <a:lnTo>
                    <a:pt x="87" y="93"/>
                  </a:lnTo>
                  <a:lnTo>
                    <a:pt x="87" y="87"/>
                  </a:lnTo>
                  <a:lnTo>
                    <a:pt x="87" y="84"/>
                  </a:lnTo>
                  <a:lnTo>
                    <a:pt x="87" y="79"/>
                  </a:lnTo>
                  <a:lnTo>
                    <a:pt x="84" y="75"/>
                  </a:lnTo>
                  <a:lnTo>
                    <a:pt x="84" y="73"/>
                  </a:lnTo>
                  <a:lnTo>
                    <a:pt x="84" y="70"/>
                  </a:lnTo>
                  <a:lnTo>
                    <a:pt x="79" y="68"/>
                  </a:lnTo>
                  <a:lnTo>
                    <a:pt x="76" y="64"/>
                  </a:lnTo>
                  <a:lnTo>
                    <a:pt x="73" y="61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65" y="59"/>
                  </a:lnTo>
                  <a:lnTo>
                    <a:pt x="61" y="59"/>
                  </a:lnTo>
                  <a:lnTo>
                    <a:pt x="56" y="56"/>
                  </a:lnTo>
                  <a:lnTo>
                    <a:pt x="53" y="56"/>
                  </a:lnTo>
                  <a:lnTo>
                    <a:pt x="47" y="52"/>
                  </a:lnTo>
                  <a:lnTo>
                    <a:pt x="44" y="52"/>
                  </a:lnTo>
                  <a:lnTo>
                    <a:pt x="39" y="52"/>
                  </a:lnTo>
                  <a:lnTo>
                    <a:pt x="37" y="52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1" y="47"/>
                  </a:lnTo>
                  <a:lnTo>
                    <a:pt x="19" y="43"/>
                  </a:lnTo>
                  <a:lnTo>
                    <a:pt x="19" y="41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19" y="32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4" y="15"/>
                  </a:lnTo>
                  <a:lnTo>
                    <a:pt x="51" y="15"/>
                  </a:lnTo>
                  <a:lnTo>
                    <a:pt x="53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1" y="20"/>
                  </a:lnTo>
                  <a:lnTo>
                    <a:pt x="65" y="24"/>
                  </a:lnTo>
                  <a:lnTo>
                    <a:pt x="68" y="27"/>
                  </a:lnTo>
                  <a:lnTo>
                    <a:pt x="68" y="29"/>
                  </a:lnTo>
                  <a:lnTo>
                    <a:pt x="68" y="32"/>
                  </a:lnTo>
                  <a:lnTo>
                    <a:pt x="70" y="36"/>
                  </a:lnTo>
                  <a:lnTo>
                    <a:pt x="70" y="38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4" y="32"/>
                  </a:lnTo>
                  <a:lnTo>
                    <a:pt x="84" y="27"/>
                  </a:lnTo>
                  <a:lnTo>
                    <a:pt x="82" y="24"/>
                  </a:lnTo>
                  <a:lnTo>
                    <a:pt x="79" y="18"/>
                  </a:lnTo>
                  <a:lnTo>
                    <a:pt x="76" y="13"/>
                  </a:lnTo>
                  <a:lnTo>
                    <a:pt x="73" y="13"/>
                  </a:lnTo>
                  <a:lnTo>
                    <a:pt x="70" y="9"/>
                  </a:lnTo>
                  <a:lnTo>
                    <a:pt x="68" y="6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6" y="4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6" y="9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4" y="59"/>
                  </a:lnTo>
                  <a:lnTo>
                    <a:pt x="19" y="61"/>
                  </a:lnTo>
                  <a:lnTo>
                    <a:pt x="25" y="64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7" y="68"/>
                  </a:lnTo>
                  <a:lnTo>
                    <a:pt x="42" y="68"/>
                  </a:lnTo>
                  <a:lnTo>
                    <a:pt x="44" y="70"/>
                  </a:lnTo>
                  <a:lnTo>
                    <a:pt x="51" y="70"/>
                  </a:lnTo>
                  <a:lnTo>
                    <a:pt x="56" y="73"/>
                  </a:lnTo>
                  <a:lnTo>
                    <a:pt x="61" y="73"/>
                  </a:lnTo>
                  <a:lnTo>
                    <a:pt x="65" y="75"/>
                  </a:lnTo>
                  <a:lnTo>
                    <a:pt x="68" y="75"/>
                  </a:lnTo>
                  <a:lnTo>
                    <a:pt x="68" y="79"/>
                  </a:lnTo>
                  <a:lnTo>
                    <a:pt x="70" y="79"/>
                  </a:lnTo>
                  <a:lnTo>
                    <a:pt x="70" y="82"/>
                  </a:lnTo>
                  <a:lnTo>
                    <a:pt x="73" y="84"/>
                  </a:lnTo>
                  <a:lnTo>
                    <a:pt x="73" y="87"/>
                  </a:lnTo>
                  <a:lnTo>
                    <a:pt x="73" y="91"/>
                  </a:lnTo>
                  <a:lnTo>
                    <a:pt x="73" y="93"/>
                  </a:lnTo>
                  <a:lnTo>
                    <a:pt x="73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68" y="102"/>
                  </a:lnTo>
                  <a:lnTo>
                    <a:pt x="68" y="105"/>
                  </a:lnTo>
                  <a:lnTo>
                    <a:pt x="65" y="105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6" y="111"/>
                  </a:lnTo>
                  <a:lnTo>
                    <a:pt x="53" y="111"/>
                  </a:lnTo>
                  <a:lnTo>
                    <a:pt x="51" y="111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3" y="111"/>
                  </a:lnTo>
                  <a:lnTo>
                    <a:pt x="30" y="107"/>
                  </a:lnTo>
                  <a:lnTo>
                    <a:pt x="28" y="107"/>
                  </a:lnTo>
                  <a:lnTo>
                    <a:pt x="25" y="107"/>
                  </a:lnTo>
                  <a:lnTo>
                    <a:pt x="25" y="105"/>
                  </a:lnTo>
                  <a:lnTo>
                    <a:pt x="21" y="105"/>
                  </a:lnTo>
                  <a:lnTo>
                    <a:pt x="19" y="102"/>
                  </a:lnTo>
                  <a:lnTo>
                    <a:pt x="19" y="96"/>
                  </a:lnTo>
                  <a:lnTo>
                    <a:pt x="16" y="93"/>
                  </a:lnTo>
                  <a:lnTo>
                    <a:pt x="14" y="93"/>
                  </a:lnTo>
                  <a:lnTo>
                    <a:pt x="14" y="87"/>
                  </a:lnTo>
                  <a:lnTo>
                    <a:pt x="14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2720" y="4218480"/>
              <a:ext cx="85680" cy="122760"/>
            </a:xfrm>
            <a:custGeom>
              <a:avLst/>
              <a:gdLst/>
              <a:ahLst/>
              <a:rect l="l" t="t" r="r" b="b"/>
              <a:pathLst>
                <a:path w="84" h="117">
                  <a:moveTo>
                    <a:pt x="0" y="117"/>
                  </a:moveTo>
                  <a:lnTo>
                    <a:pt x="84" y="117"/>
                  </a:lnTo>
                  <a:lnTo>
                    <a:pt x="84" y="99"/>
                  </a:lnTo>
                  <a:lnTo>
                    <a:pt x="16" y="99"/>
                  </a:lnTo>
                  <a:lnTo>
                    <a:pt x="16" y="62"/>
                  </a:lnTo>
                  <a:lnTo>
                    <a:pt x="75" y="62"/>
                  </a:lnTo>
                  <a:lnTo>
                    <a:pt x="75" y="50"/>
                  </a:lnTo>
                  <a:lnTo>
                    <a:pt x="16" y="50"/>
                  </a:lnTo>
                  <a:lnTo>
                    <a:pt x="16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55480" y="4184280"/>
              <a:ext cx="91440" cy="119160"/>
            </a:xfrm>
            <a:custGeom>
              <a:avLst/>
              <a:gdLst/>
              <a:ahLst/>
              <a:rect l="l" t="t" r="r" b="b"/>
              <a:pathLst>
                <a:path w="91" h="116">
                  <a:moveTo>
                    <a:pt x="0" y="0"/>
                  </a:moveTo>
                  <a:lnTo>
                    <a:pt x="0" y="116"/>
                  </a:lnTo>
                  <a:lnTo>
                    <a:pt x="18" y="116"/>
                  </a:lnTo>
                  <a:lnTo>
                    <a:pt x="18" y="66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9" y="66"/>
                  </a:lnTo>
                  <a:lnTo>
                    <a:pt x="54" y="66"/>
                  </a:lnTo>
                  <a:lnTo>
                    <a:pt x="58" y="66"/>
                  </a:lnTo>
                  <a:lnTo>
                    <a:pt x="60" y="66"/>
                  </a:lnTo>
                  <a:lnTo>
                    <a:pt x="63" y="66"/>
                  </a:lnTo>
                  <a:lnTo>
                    <a:pt x="66" y="70"/>
                  </a:lnTo>
                  <a:lnTo>
                    <a:pt x="66" y="73"/>
                  </a:lnTo>
                  <a:lnTo>
                    <a:pt x="68" y="75"/>
                  </a:lnTo>
                  <a:lnTo>
                    <a:pt x="68" y="78"/>
                  </a:lnTo>
                  <a:lnTo>
                    <a:pt x="68" y="82"/>
                  </a:lnTo>
                  <a:lnTo>
                    <a:pt x="68" y="84"/>
                  </a:lnTo>
                  <a:lnTo>
                    <a:pt x="72" y="98"/>
                  </a:lnTo>
                  <a:lnTo>
                    <a:pt x="72" y="102"/>
                  </a:lnTo>
                  <a:lnTo>
                    <a:pt x="72" y="105"/>
                  </a:lnTo>
                  <a:lnTo>
                    <a:pt x="72" y="107"/>
                  </a:lnTo>
                  <a:lnTo>
                    <a:pt x="72" y="110"/>
                  </a:lnTo>
                  <a:lnTo>
                    <a:pt x="72" y="114"/>
                  </a:lnTo>
                  <a:lnTo>
                    <a:pt x="75" y="116"/>
                  </a:lnTo>
                  <a:lnTo>
                    <a:pt x="91" y="116"/>
                  </a:lnTo>
                  <a:lnTo>
                    <a:pt x="91" y="114"/>
                  </a:lnTo>
                  <a:lnTo>
                    <a:pt x="91" y="110"/>
                  </a:lnTo>
                  <a:lnTo>
                    <a:pt x="89" y="110"/>
                  </a:lnTo>
                  <a:lnTo>
                    <a:pt x="89" y="107"/>
                  </a:lnTo>
                  <a:lnTo>
                    <a:pt x="89" y="105"/>
                  </a:lnTo>
                  <a:lnTo>
                    <a:pt x="89" y="102"/>
                  </a:lnTo>
                  <a:lnTo>
                    <a:pt x="89" y="98"/>
                  </a:lnTo>
                  <a:lnTo>
                    <a:pt x="86" y="82"/>
                  </a:lnTo>
                  <a:lnTo>
                    <a:pt x="86" y="75"/>
                  </a:lnTo>
                  <a:lnTo>
                    <a:pt x="86" y="73"/>
                  </a:lnTo>
                  <a:lnTo>
                    <a:pt x="82" y="73"/>
                  </a:lnTo>
                  <a:lnTo>
                    <a:pt x="82" y="70"/>
                  </a:lnTo>
                  <a:lnTo>
                    <a:pt x="82" y="66"/>
                  </a:lnTo>
                  <a:lnTo>
                    <a:pt x="82" y="64"/>
                  </a:lnTo>
                  <a:lnTo>
                    <a:pt x="80" y="61"/>
                  </a:lnTo>
                  <a:lnTo>
                    <a:pt x="77" y="61"/>
                  </a:lnTo>
                  <a:lnTo>
                    <a:pt x="77" y="59"/>
                  </a:lnTo>
                  <a:lnTo>
                    <a:pt x="75" y="59"/>
                  </a:lnTo>
                  <a:lnTo>
                    <a:pt x="72" y="59"/>
                  </a:lnTo>
                  <a:lnTo>
                    <a:pt x="75" y="55"/>
                  </a:lnTo>
                  <a:lnTo>
                    <a:pt x="77" y="55"/>
                  </a:lnTo>
                  <a:lnTo>
                    <a:pt x="77" y="52"/>
                  </a:lnTo>
                  <a:lnTo>
                    <a:pt x="80" y="52"/>
                  </a:lnTo>
                  <a:lnTo>
                    <a:pt x="82" y="50"/>
                  </a:lnTo>
                  <a:lnTo>
                    <a:pt x="86" y="47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89" y="34"/>
                  </a:lnTo>
                  <a:lnTo>
                    <a:pt x="89" y="32"/>
                  </a:lnTo>
                  <a:lnTo>
                    <a:pt x="89" y="29"/>
                  </a:lnTo>
                  <a:lnTo>
                    <a:pt x="89" y="27"/>
                  </a:lnTo>
                  <a:lnTo>
                    <a:pt x="89" y="23"/>
                  </a:lnTo>
                  <a:lnTo>
                    <a:pt x="86" y="20"/>
                  </a:lnTo>
                  <a:lnTo>
                    <a:pt x="86" y="18"/>
                  </a:lnTo>
                  <a:lnTo>
                    <a:pt x="82" y="15"/>
                  </a:lnTo>
                  <a:lnTo>
                    <a:pt x="82" y="11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2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0" y="0"/>
                  </a:lnTo>
                  <a:lnTo>
                    <a:pt x="18" y="15"/>
                  </a:lnTo>
                  <a:lnTo>
                    <a:pt x="44" y="15"/>
                  </a:lnTo>
                  <a:lnTo>
                    <a:pt x="49" y="15"/>
                  </a:lnTo>
                  <a:lnTo>
                    <a:pt x="54" y="15"/>
                  </a:lnTo>
                  <a:lnTo>
                    <a:pt x="60" y="15"/>
                  </a:lnTo>
                  <a:lnTo>
                    <a:pt x="63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68" y="20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2" y="29"/>
                  </a:lnTo>
                  <a:lnTo>
                    <a:pt x="72" y="32"/>
                  </a:lnTo>
                  <a:lnTo>
                    <a:pt x="72" y="34"/>
                  </a:lnTo>
                  <a:lnTo>
                    <a:pt x="72" y="38"/>
                  </a:lnTo>
                  <a:lnTo>
                    <a:pt x="72" y="41"/>
                  </a:lnTo>
                  <a:lnTo>
                    <a:pt x="68" y="43"/>
                  </a:lnTo>
                  <a:lnTo>
                    <a:pt x="66" y="47"/>
                  </a:lnTo>
                  <a:lnTo>
                    <a:pt x="66" y="50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4" y="52"/>
                  </a:lnTo>
                  <a:lnTo>
                    <a:pt x="49" y="52"/>
                  </a:lnTo>
                  <a:lnTo>
                    <a:pt x="44" y="52"/>
                  </a:lnTo>
                  <a:lnTo>
                    <a:pt x="18" y="52"/>
                  </a:lnTo>
                  <a:lnTo>
                    <a:pt x="1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59520" y="4146120"/>
              <a:ext cx="106560" cy="12276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45" y="117"/>
                  </a:moveTo>
                  <a:lnTo>
                    <a:pt x="61" y="117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53" y="9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5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8040" y="409248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116"/>
                  </a:moveTo>
                  <a:lnTo>
                    <a:pt x="86" y="116"/>
                  </a:lnTo>
                  <a:lnTo>
                    <a:pt x="86" y="102"/>
                  </a:lnTo>
                  <a:lnTo>
                    <a:pt x="14" y="102"/>
                  </a:lnTo>
                  <a:lnTo>
                    <a:pt x="14" y="61"/>
                  </a:lnTo>
                  <a:lnTo>
                    <a:pt x="79" y="61"/>
                  </a:lnTo>
                  <a:lnTo>
                    <a:pt x="79" y="50"/>
                  </a:lnTo>
                  <a:lnTo>
                    <a:pt x="14" y="50"/>
                  </a:lnTo>
                  <a:lnTo>
                    <a:pt x="14" y="15"/>
                  </a:lnTo>
                  <a:lnTo>
                    <a:pt x="82" y="1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600" y="2315160"/>
              <a:ext cx="1006200" cy="790920"/>
            </a:xfrm>
            <a:custGeom>
              <a:avLst/>
              <a:gdLst/>
              <a:ahLst/>
              <a:rect l="l" t="t" r="r" b="b"/>
              <a:pathLst>
                <a:path w="986" h="755">
                  <a:moveTo>
                    <a:pt x="493" y="0"/>
                  </a:moveTo>
                  <a:lnTo>
                    <a:pt x="0" y="383"/>
                  </a:lnTo>
                  <a:lnTo>
                    <a:pt x="488" y="755"/>
                  </a:lnTo>
                  <a:lnTo>
                    <a:pt x="986" y="383"/>
                  </a:lnTo>
                  <a:lnTo>
                    <a:pt x="493" y="0"/>
                  </a:lnTo>
                </a:path>
              </a:pathLst>
            </a:custGeom>
            <a:noFill/>
            <a:ln w="468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1600" y="2116800"/>
              <a:ext cx="348120" cy="412920"/>
            </a:xfrm>
            <a:custGeom>
              <a:avLst/>
              <a:gdLst/>
              <a:ahLst/>
              <a:rect l="l" t="t" r="r" b="b"/>
              <a:pathLst>
                <a:path w="343" h="392">
                  <a:moveTo>
                    <a:pt x="68" y="0"/>
                  </a:moveTo>
                  <a:lnTo>
                    <a:pt x="0" y="96"/>
                  </a:lnTo>
                  <a:lnTo>
                    <a:pt x="238" y="392"/>
                  </a:lnTo>
                  <a:lnTo>
                    <a:pt x="343" y="31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1600" y="2116800"/>
              <a:ext cx="363240" cy="425160"/>
            </a:xfrm>
            <a:custGeom>
              <a:avLst/>
              <a:gdLst/>
              <a:ahLst/>
              <a:rect l="l" t="t" r="r" b="b"/>
              <a:pathLst>
                <a:path w="357" h="406">
                  <a:moveTo>
                    <a:pt x="72" y="0"/>
                  </a:moveTo>
                  <a:lnTo>
                    <a:pt x="0" y="101"/>
                  </a:lnTo>
                  <a:lnTo>
                    <a:pt x="250" y="406"/>
                  </a:lnTo>
                  <a:lnTo>
                    <a:pt x="357" y="328"/>
                  </a:lnTo>
                  <a:lnTo>
                    <a:pt x="7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720" y="1788480"/>
              <a:ext cx="549720" cy="790920"/>
            </a:xfrm>
            <a:custGeom>
              <a:avLst/>
              <a:gdLst/>
              <a:ahLst/>
              <a:rect l="l" t="t" r="r" b="b"/>
              <a:pathLst>
                <a:path w="541" h="753">
                  <a:moveTo>
                    <a:pt x="235" y="753"/>
                  </a:moveTo>
                  <a:lnTo>
                    <a:pt x="291" y="673"/>
                  </a:lnTo>
                  <a:lnTo>
                    <a:pt x="345" y="616"/>
                  </a:lnTo>
                  <a:lnTo>
                    <a:pt x="391" y="554"/>
                  </a:lnTo>
                  <a:lnTo>
                    <a:pt x="424" y="499"/>
                  </a:lnTo>
                  <a:lnTo>
                    <a:pt x="476" y="387"/>
                  </a:lnTo>
                  <a:lnTo>
                    <a:pt x="501" y="305"/>
                  </a:lnTo>
                  <a:lnTo>
                    <a:pt x="527" y="215"/>
                  </a:lnTo>
                  <a:lnTo>
                    <a:pt x="537" y="122"/>
                  </a:lnTo>
                  <a:lnTo>
                    <a:pt x="541" y="32"/>
                  </a:lnTo>
                  <a:lnTo>
                    <a:pt x="541" y="16"/>
                  </a:lnTo>
                  <a:lnTo>
                    <a:pt x="532" y="0"/>
                  </a:lnTo>
                  <a:lnTo>
                    <a:pt x="419" y="96"/>
                  </a:lnTo>
                  <a:lnTo>
                    <a:pt x="312" y="197"/>
                  </a:lnTo>
                  <a:lnTo>
                    <a:pt x="207" y="311"/>
                  </a:lnTo>
                  <a:lnTo>
                    <a:pt x="107" y="428"/>
                  </a:lnTo>
                  <a:lnTo>
                    <a:pt x="0" y="572"/>
                  </a:lnTo>
                  <a:lnTo>
                    <a:pt x="235" y="7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8720" y="1788480"/>
              <a:ext cx="559440" cy="806760"/>
            </a:xfrm>
            <a:custGeom>
              <a:avLst/>
              <a:gdLst/>
              <a:ahLst/>
              <a:rect l="l" t="t" r="r" b="b"/>
              <a:pathLst>
                <a:path w="551" h="767">
                  <a:moveTo>
                    <a:pt x="240" y="767"/>
                  </a:moveTo>
                  <a:lnTo>
                    <a:pt x="296" y="685"/>
                  </a:lnTo>
                  <a:lnTo>
                    <a:pt x="350" y="627"/>
                  </a:lnTo>
                  <a:lnTo>
                    <a:pt x="399" y="566"/>
                  </a:lnTo>
                  <a:lnTo>
                    <a:pt x="436" y="508"/>
                  </a:lnTo>
                  <a:lnTo>
                    <a:pt x="487" y="392"/>
                  </a:lnTo>
                  <a:lnTo>
                    <a:pt x="513" y="311"/>
                  </a:lnTo>
                  <a:lnTo>
                    <a:pt x="537" y="218"/>
                  </a:lnTo>
                  <a:lnTo>
                    <a:pt x="549" y="126"/>
                  </a:lnTo>
                  <a:lnTo>
                    <a:pt x="551" y="35"/>
                  </a:lnTo>
                  <a:lnTo>
                    <a:pt x="551" y="16"/>
                  </a:lnTo>
                  <a:lnTo>
                    <a:pt x="543" y="0"/>
                  </a:lnTo>
                  <a:lnTo>
                    <a:pt x="427" y="99"/>
                  </a:lnTo>
                  <a:lnTo>
                    <a:pt x="317" y="201"/>
                  </a:lnTo>
                  <a:lnTo>
                    <a:pt x="209" y="316"/>
                  </a:lnTo>
                  <a:lnTo>
                    <a:pt x="111" y="435"/>
                  </a:lnTo>
                  <a:lnTo>
                    <a:pt x="0" y="584"/>
                  </a:lnTo>
                  <a:lnTo>
                    <a:pt x="240" y="76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70840" y="2926440"/>
              <a:ext cx="688680" cy="790920"/>
            </a:xfrm>
            <a:custGeom>
              <a:avLst/>
              <a:gdLst/>
              <a:ahLst/>
              <a:rect l="l" t="t" r="r" b="b"/>
              <a:pathLst>
                <a:path w="677" h="751">
                  <a:moveTo>
                    <a:pt x="102" y="0"/>
                  </a:moveTo>
                  <a:lnTo>
                    <a:pt x="0" y="75"/>
                  </a:lnTo>
                  <a:lnTo>
                    <a:pt x="530" y="675"/>
                  </a:lnTo>
                  <a:lnTo>
                    <a:pt x="558" y="707"/>
                  </a:lnTo>
                  <a:lnTo>
                    <a:pt x="595" y="728"/>
                  </a:lnTo>
                  <a:lnTo>
                    <a:pt x="637" y="746"/>
                  </a:lnTo>
                  <a:lnTo>
                    <a:pt x="656" y="751"/>
                  </a:lnTo>
                  <a:lnTo>
                    <a:pt x="665" y="751"/>
                  </a:lnTo>
                  <a:lnTo>
                    <a:pt x="677" y="746"/>
                  </a:lnTo>
                  <a:lnTo>
                    <a:pt x="677" y="734"/>
                  </a:lnTo>
                  <a:lnTo>
                    <a:pt x="677" y="716"/>
                  </a:lnTo>
                  <a:lnTo>
                    <a:pt x="677" y="696"/>
                  </a:lnTo>
                  <a:lnTo>
                    <a:pt x="665" y="659"/>
                  </a:lnTo>
                  <a:lnTo>
                    <a:pt x="646" y="624"/>
                  </a:lnTo>
                  <a:lnTo>
                    <a:pt x="617" y="58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0840" y="2926440"/>
              <a:ext cx="700200" cy="806760"/>
            </a:xfrm>
            <a:custGeom>
              <a:avLst/>
              <a:gdLst/>
              <a:ahLst/>
              <a:rect l="l" t="t" r="r" b="b"/>
              <a:pathLst>
                <a:path w="688" h="766">
                  <a:moveTo>
                    <a:pt x="102" y="0"/>
                  </a:moveTo>
                  <a:lnTo>
                    <a:pt x="0" y="75"/>
                  </a:lnTo>
                  <a:lnTo>
                    <a:pt x="537" y="687"/>
                  </a:lnTo>
                  <a:lnTo>
                    <a:pt x="569" y="723"/>
                  </a:lnTo>
                  <a:lnTo>
                    <a:pt x="605" y="743"/>
                  </a:lnTo>
                  <a:lnTo>
                    <a:pt x="645" y="760"/>
                  </a:lnTo>
                  <a:lnTo>
                    <a:pt x="668" y="766"/>
                  </a:lnTo>
                  <a:lnTo>
                    <a:pt x="677" y="766"/>
                  </a:lnTo>
                  <a:lnTo>
                    <a:pt x="688" y="760"/>
                  </a:lnTo>
                  <a:lnTo>
                    <a:pt x="688" y="748"/>
                  </a:lnTo>
                  <a:lnTo>
                    <a:pt x="688" y="730"/>
                  </a:lnTo>
                  <a:lnTo>
                    <a:pt x="688" y="711"/>
                  </a:lnTo>
                  <a:lnTo>
                    <a:pt x="677" y="673"/>
                  </a:lnTo>
                  <a:lnTo>
                    <a:pt x="654" y="636"/>
                  </a:lnTo>
                  <a:lnTo>
                    <a:pt x="626" y="600"/>
                  </a:lnTo>
                  <a:lnTo>
                    <a:pt x="1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8000" y="2914200"/>
              <a:ext cx="635760" cy="869400"/>
            </a:xfrm>
            <a:custGeom>
              <a:avLst/>
              <a:gdLst/>
              <a:ahLst/>
              <a:rect l="l" t="t" r="r" b="b"/>
              <a:pathLst>
                <a:path w="622" h="829">
                  <a:moveTo>
                    <a:pt x="433" y="0"/>
                  </a:moveTo>
                  <a:lnTo>
                    <a:pt x="342" y="115"/>
                  </a:lnTo>
                  <a:lnTo>
                    <a:pt x="272" y="202"/>
                  </a:lnTo>
                  <a:lnTo>
                    <a:pt x="209" y="298"/>
                  </a:lnTo>
                  <a:lnTo>
                    <a:pt x="153" y="400"/>
                  </a:lnTo>
                  <a:lnTo>
                    <a:pt x="99" y="504"/>
                  </a:lnTo>
                  <a:lnTo>
                    <a:pt x="59" y="618"/>
                  </a:lnTo>
                  <a:lnTo>
                    <a:pt x="26" y="733"/>
                  </a:lnTo>
                  <a:lnTo>
                    <a:pt x="0" y="829"/>
                  </a:lnTo>
                  <a:lnTo>
                    <a:pt x="8" y="806"/>
                  </a:lnTo>
                  <a:lnTo>
                    <a:pt x="26" y="760"/>
                  </a:lnTo>
                  <a:lnTo>
                    <a:pt x="54" y="721"/>
                  </a:lnTo>
                  <a:lnTo>
                    <a:pt x="82" y="689"/>
                  </a:lnTo>
                  <a:lnTo>
                    <a:pt x="119" y="673"/>
                  </a:lnTo>
                  <a:lnTo>
                    <a:pt x="162" y="657"/>
                  </a:lnTo>
                  <a:lnTo>
                    <a:pt x="162" y="618"/>
                  </a:lnTo>
                  <a:lnTo>
                    <a:pt x="176" y="556"/>
                  </a:lnTo>
                  <a:lnTo>
                    <a:pt x="195" y="501"/>
                  </a:lnTo>
                  <a:lnTo>
                    <a:pt x="220" y="449"/>
                  </a:lnTo>
                  <a:lnTo>
                    <a:pt x="238" y="435"/>
                  </a:lnTo>
                  <a:lnTo>
                    <a:pt x="255" y="432"/>
                  </a:lnTo>
                  <a:lnTo>
                    <a:pt x="274" y="446"/>
                  </a:lnTo>
                  <a:lnTo>
                    <a:pt x="288" y="458"/>
                  </a:lnTo>
                  <a:lnTo>
                    <a:pt x="288" y="449"/>
                  </a:lnTo>
                  <a:lnTo>
                    <a:pt x="283" y="419"/>
                  </a:lnTo>
                  <a:lnTo>
                    <a:pt x="288" y="389"/>
                  </a:lnTo>
                  <a:lnTo>
                    <a:pt x="306" y="362"/>
                  </a:lnTo>
                  <a:lnTo>
                    <a:pt x="325" y="350"/>
                  </a:lnTo>
                  <a:lnTo>
                    <a:pt x="351" y="318"/>
                  </a:lnTo>
                  <a:lnTo>
                    <a:pt x="386" y="302"/>
                  </a:lnTo>
                  <a:lnTo>
                    <a:pt x="416" y="293"/>
                  </a:lnTo>
                  <a:lnTo>
                    <a:pt x="456" y="295"/>
                  </a:lnTo>
                  <a:lnTo>
                    <a:pt x="489" y="309"/>
                  </a:lnTo>
                  <a:lnTo>
                    <a:pt x="507" y="284"/>
                  </a:lnTo>
                  <a:lnTo>
                    <a:pt x="622" y="144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8000" y="2914200"/>
              <a:ext cx="651240" cy="885240"/>
            </a:xfrm>
            <a:custGeom>
              <a:avLst/>
              <a:gdLst/>
              <a:ahLst/>
              <a:rect l="l" t="t" r="r" b="b"/>
              <a:pathLst>
                <a:path w="638" h="844">
                  <a:moveTo>
                    <a:pt x="442" y="0"/>
                  </a:moveTo>
                  <a:lnTo>
                    <a:pt x="351" y="119"/>
                  </a:lnTo>
                  <a:lnTo>
                    <a:pt x="281" y="208"/>
                  </a:lnTo>
                  <a:lnTo>
                    <a:pt x="215" y="304"/>
                  </a:lnTo>
                  <a:lnTo>
                    <a:pt x="155" y="409"/>
                  </a:lnTo>
                  <a:lnTo>
                    <a:pt x="101" y="513"/>
                  </a:lnTo>
                  <a:lnTo>
                    <a:pt x="62" y="627"/>
                  </a:lnTo>
                  <a:lnTo>
                    <a:pt x="26" y="746"/>
                  </a:lnTo>
                  <a:lnTo>
                    <a:pt x="0" y="844"/>
                  </a:lnTo>
                  <a:lnTo>
                    <a:pt x="8" y="821"/>
                  </a:lnTo>
                  <a:lnTo>
                    <a:pt x="26" y="771"/>
                  </a:lnTo>
                  <a:lnTo>
                    <a:pt x="54" y="733"/>
                  </a:lnTo>
                  <a:lnTo>
                    <a:pt x="85" y="705"/>
                  </a:lnTo>
                  <a:lnTo>
                    <a:pt x="122" y="684"/>
                  </a:lnTo>
                  <a:lnTo>
                    <a:pt x="164" y="670"/>
                  </a:lnTo>
                  <a:lnTo>
                    <a:pt x="167" y="629"/>
                  </a:lnTo>
                  <a:lnTo>
                    <a:pt x="178" y="568"/>
                  </a:lnTo>
                  <a:lnTo>
                    <a:pt x="199" y="510"/>
                  </a:lnTo>
                  <a:lnTo>
                    <a:pt x="224" y="458"/>
                  </a:lnTo>
                  <a:lnTo>
                    <a:pt x="227" y="458"/>
                  </a:lnTo>
                  <a:lnTo>
                    <a:pt x="244" y="440"/>
                  </a:lnTo>
                  <a:lnTo>
                    <a:pt x="260" y="440"/>
                  </a:lnTo>
                  <a:lnTo>
                    <a:pt x="281" y="453"/>
                  </a:lnTo>
                  <a:lnTo>
                    <a:pt x="295" y="467"/>
                  </a:lnTo>
                  <a:lnTo>
                    <a:pt x="295" y="458"/>
                  </a:lnTo>
                  <a:lnTo>
                    <a:pt x="288" y="428"/>
                  </a:lnTo>
                  <a:lnTo>
                    <a:pt x="295" y="394"/>
                  </a:lnTo>
                  <a:lnTo>
                    <a:pt x="311" y="368"/>
                  </a:lnTo>
                  <a:lnTo>
                    <a:pt x="332" y="357"/>
                  </a:lnTo>
                  <a:lnTo>
                    <a:pt x="360" y="325"/>
                  </a:lnTo>
                  <a:lnTo>
                    <a:pt x="393" y="307"/>
                  </a:lnTo>
                  <a:lnTo>
                    <a:pt x="425" y="298"/>
                  </a:lnTo>
                  <a:lnTo>
                    <a:pt x="467" y="302"/>
                  </a:lnTo>
                  <a:lnTo>
                    <a:pt x="498" y="316"/>
                  </a:lnTo>
                  <a:lnTo>
                    <a:pt x="519" y="290"/>
                  </a:lnTo>
                  <a:lnTo>
                    <a:pt x="638" y="147"/>
                  </a:lnTo>
                  <a:lnTo>
                    <a:pt x="44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928600" y="2699640"/>
              <a:ext cx="1005840" cy="33840"/>
              <a:chOff x="2928600" y="2699640"/>
              <a:chExt cx="1005840" cy="33840"/>
            </a:xfrm>
          </p:grpSpPr>
          <p:sp>
            <p:nvSpPr>
              <p:cNvPr id="143" name=""/>
              <p:cNvSpPr/>
              <p:nvPr/>
            </p:nvSpPr>
            <p:spPr>
              <a:xfrm>
                <a:off x="2928600" y="2699640"/>
                <a:ext cx="1005840" cy="33840"/>
              </a:xfrm>
              <a:custGeom>
                <a:avLst/>
                <a:gdLst/>
                <a:ahLst/>
                <a:rect l="l" t="t" r="r" b="b"/>
                <a:pathLst>
                  <a:path w="986" h="35">
                    <a:moveTo>
                      <a:pt x="23" y="35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963" y="0"/>
                    </a:lnTo>
                    <a:lnTo>
                      <a:pt x="986" y="18"/>
                    </a:lnTo>
                    <a:lnTo>
                      <a:pt x="960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28600" y="2699640"/>
                <a:ext cx="1005840" cy="33840"/>
              </a:xfrm>
              <a:custGeom>
                <a:avLst/>
                <a:gdLst/>
                <a:ahLst/>
                <a:rect l="l" t="t" r="r" b="b"/>
                <a:pathLst>
                  <a:path w="986" h="35">
                    <a:moveTo>
                      <a:pt x="23" y="35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963" y="0"/>
                    </a:lnTo>
                    <a:lnTo>
                      <a:pt x="986" y="18"/>
                    </a:lnTo>
                    <a:lnTo>
                      <a:pt x="960" y="35"/>
                    </a:lnTo>
                    <a:lnTo>
                      <a:pt x="23" y="35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421080" y="2318040"/>
              <a:ext cx="18360" cy="793440"/>
              <a:chOff x="3421080" y="2318040"/>
              <a:chExt cx="18360" cy="793440"/>
            </a:xfrm>
          </p:grpSpPr>
          <p:sp>
            <p:nvSpPr>
              <p:cNvPr id="146" name=""/>
              <p:cNvSpPr/>
              <p:nvPr/>
            </p:nvSpPr>
            <p:spPr>
              <a:xfrm>
                <a:off x="3421080" y="2318040"/>
                <a:ext cx="18360" cy="793440"/>
              </a:xfrm>
              <a:custGeom>
                <a:avLst/>
                <a:gdLst/>
                <a:ahLst/>
                <a:rect l="l" t="t" r="r" b="b"/>
                <a:pathLst>
                  <a:path w="18" h="757">
                    <a:moveTo>
                      <a:pt x="0" y="748"/>
                    </a:moveTo>
                    <a:lnTo>
                      <a:pt x="0" y="11"/>
                    </a:lnTo>
                    <a:lnTo>
                      <a:pt x="7" y="0"/>
                    </a:lnTo>
                    <a:lnTo>
                      <a:pt x="18" y="11"/>
                    </a:lnTo>
                    <a:lnTo>
                      <a:pt x="18" y="748"/>
                    </a:lnTo>
                    <a:lnTo>
                      <a:pt x="12" y="757"/>
                    </a:lnTo>
                    <a:lnTo>
                      <a:pt x="0" y="74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21080" y="2318040"/>
                <a:ext cx="18360" cy="793440"/>
              </a:xfrm>
              <a:custGeom>
                <a:avLst/>
                <a:gdLst/>
                <a:ahLst/>
                <a:rect l="l" t="t" r="r" b="b"/>
                <a:pathLst>
                  <a:path w="18" h="757">
                    <a:moveTo>
                      <a:pt x="0" y="748"/>
                    </a:moveTo>
                    <a:lnTo>
                      <a:pt x="0" y="11"/>
                    </a:lnTo>
                    <a:lnTo>
                      <a:pt x="7" y="0"/>
                    </a:lnTo>
                    <a:lnTo>
                      <a:pt x="18" y="11"/>
                    </a:lnTo>
                    <a:lnTo>
                      <a:pt x="18" y="748"/>
                    </a:lnTo>
                    <a:lnTo>
                      <a:pt x="12" y="757"/>
                    </a:lnTo>
                    <a:lnTo>
                      <a:pt x="0" y="748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439800" y="2327400"/>
              <a:ext cx="470520" cy="371880"/>
              <a:chOff x="3439800" y="2327400"/>
              <a:chExt cx="470520" cy="371880"/>
            </a:xfrm>
          </p:grpSpPr>
          <p:sp>
            <p:nvSpPr>
              <p:cNvPr id="149" name=""/>
              <p:cNvSpPr/>
              <p:nvPr/>
            </p:nvSpPr>
            <p:spPr>
              <a:xfrm>
                <a:off x="3439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1" h="352">
                    <a:moveTo>
                      <a:pt x="0" y="0"/>
                    </a:moveTo>
                    <a:lnTo>
                      <a:pt x="0" y="32"/>
                    </a:lnTo>
                    <a:lnTo>
                      <a:pt x="421" y="352"/>
                    </a:lnTo>
                    <a:lnTo>
                      <a:pt x="461" y="35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39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1" h="352">
                    <a:moveTo>
                      <a:pt x="0" y="0"/>
                    </a:moveTo>
                    <a:lnTo>
                      <a:pt x="0" y="32"/>
                    </a:lnTo>
                    <a:lnTo>
                      <a:pt x="421" y="352"/>
                    </a:lnTo>
                    <a:lnTo>
                      <a:pt x="461" y="35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953800" y="2327400"/>
              <a:ext cx="470520" cy="371880"/>
              <a:chOff x="2953800" y="2327400"/>
              <a:chExt cx="470520" cy="371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953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0"/>
                    </a:moveTo>
                    <a:lnTo>
                      <a:pt x="462" y="32"/>
                    </a:lnTo>
                    <a:lnTo>
                      <a:pt x="38" y="352"/>
                    </a:lnTo>
                    <a:lnTo>
                      <a:pt x="0" y="352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53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0"/>
                    </a:moveTo>
                    <a:lnTo>
                      <a:pt x="462" y="32"/>
                    </a:lnTo>
                    <a:lnTo>
                      <a:pt x="38" y="352"/>
                    </a:lnTo>
                    <a:lnTo>
                      <a:pt x="0" y="352"/>
                    </a:lnTo>
                    <a:lnTo>
                      <a:pt x="462" y="0"/>
                    </a:lnTo>
                  </a:path>
                </a:pathLst>
              </a:custGeom>
              <a:noFill/>
              <a:ln w="468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953800" y="2734200"/>
              <a:ext cx="470520" cy="371880"/>
              <a:chOff x="2953800" y="2734200"/>
              <a:chExt cx="470520" cy="371880"/>
            </a:xfrm>
          </p:grpSpPr>
          <p:sp>
            <p:nvSpPr>
              <p:cNvPr id="155" name=""/>
              <p:cNvSpPr/>
              <p:nvPr/>
            </p:nvSpPr>
            <p:spPr>
              <a:xfrm>
                <a:off x="2953800" y="27342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325"/>
                    </a:moveTo>
                    <a:lnTo>
                      <a:pt x="462" y="352"/>
                    </a:lnTo>
                    <a:lnTo>
                      <a:pt x="462" y="325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462" y="352"/>
                    </a:lnTo>
                    <a:lnTo>
                      <a:pt x="462" y="325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53800" y="27342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325"/>
                    </a:moveTo>
                    <a:lnTo>
                      <a:pt x="462" y="352"/>
                    </a:lnTo>
                    <a:lnTo>
                      <a:pt x="462" y="325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462" y="352"/>
                    </a:lnTo>
                    <a:lnTo>
                      <a:pt x="462" y="325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439800" y="2734200"/>
              <a:ext cx="464040" cy="371880"/>
              <a:chOff x="3439800" y="2734200"/>
              <a:chExt cx="464040" cy="371880"/>
            </a:xfrm>
          </p:grpSpPr>
          <p:sp>
            <p:nvSpPr>
              <p:cNvPr id="158" name=""/>
              <p:cNvSpPr/>
              <p:nvPr/>
            </p:nvSpPr>
            <p:spPr>
              <a:xfrm>
                <a:off x="3439800" y="2734200"/>
                <a:ext cx="464040" cy="371880"/>
              </a:xfrm>
              <a:custGeom>
                <a:avLst/>
                <a:gdLst/>
                <a:ahLst/>
                <a:rect l="l" t="t" r="r" b="b"/>
                <a:pathLst>
                  <a:path w="456" h="352">
                    <a:moveTo>
                      <a:pt x="0" y="345"/>
                    </a:moveTo>
                    <a:lnTo>
                      <a:pt x="0" y="325"/>
                    </a:lnTo>
                    <a:lnTo>
                      <a:pt x="424" y="0"/>
                    </a:lnTo>
                    <a:lnTo>
                      <a:pt x="456" y="0"/>
                    </a:lnTo>
                    <a:lnTo>
                      <a:pt x="0" y="352"/>
                    </a:lnTo>
                    <a:lnTo>
                      <a:pt x="0" y="34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39800" y="2734200"/>
                <a:ext cx="464040" cy="371880"/>
              </a:xfrm>
              <a:custGeom>
                <a:avLst/>
                <a:gdLst/>
                <a:ahLst/>
                <a:rect l="l" t="t" r="r" b="b"/>
                <a:pathLst>
                  <a:path w="456" h="352">
                    <a:moveTo>
                      <a:pt x="0" y="345"/>
                    </a:moveTo>
                    <a:lnTo>
                      <a:pt x="0" y="325"/>
                    </a:lnTo>
                    <a:lnTo>
                      <a:pt x="424" y="0"/>
                    </a:lnTo>
                    <a:lnTo>
                      <a:pt x="456" y="0"/>
                    </a:lnTo>
                    <a:lnTo>
                      <a:pt x="0" y="352"/>
                    </a:lnTo>
                    <a:lnTo>
                      <a:pt x="0" y="345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3097080" y="2425320"/>
              <a:ext cx="308520" cy="2836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207600" y="2503800"/>
              <a:ext cx="201600" cy="2077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314160" y="2601720"/>
              <a:ext cx="91440" cy="10980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405960" y="2664360"/>
              <a:ext cx="3240" cy="4716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430800" y="2415960"/>
              <a:ext cx="354240" cy="28656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3430800" y="2500920"/>
              <a:ext cx="244080" cy="2077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3430440" y="2598840"/>
              <a:ext cx="140040" cy="10980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430440" y="2661480"/>
              <a:ext cx="42120" cy="4716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430800" y="2749680"/>
              <a:ext cx="354240" cy="2365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430800" y="2749680"/>
              <a:ext cx="256320" cy="1576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430440" y="2749680"/>
              <a:ext cx="140040" cy="6264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430440" y="2737800"/>
              <a:ext cx="45720" cy="900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97080" y="2749680"/>
              <a:ext cx="308520" cy="2365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7600" y="2749680"/>
              <a:ext cx="201600" cy="1576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4160" y="2749680"/>
              <a:ext cx="91440" cy="6264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5960" y="2737800"/>
              <a:ext cx="3240" cy="154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41400" y="6095880"/>
            <a:ext cx="505620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DOUT 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rehensive Military Pay 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3240" y="250920"/>
            <a:ext cx="5314680" cy="86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 - Parachut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 - Stress/Toxic Fuel/Pesticid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 - Submarin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 - Overseas Extens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- Board Certification Special Pay (BC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 - Dental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- Div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 - Foreign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 - Hostile Fire or Imminent Danger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 - Variable Speci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 - Continuation Pay/ASP/ISP/MOR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 - Registered Nurse Accession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 - Sea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 - Veterina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 - Optome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 - Special Duty Assign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 -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 - Scientific and Engineering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 - Selective Reenlistment Bonus (S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 - Selective 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 - Basic Allowance for Quarters (BA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 - Basic Allowance for Quarters (BAQ-DIFF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 - Aviator 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 - Basic Allowance for Subsistence (BA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 - Personal Money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 - Move In Housing Allowance (MIH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 - Cost of Living Allowance (COL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 - COLA 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 - COLA Pro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/55 - Rent Pl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4/56 - Rent Plus Interi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/57 - Rent Plus 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 - Uniform and Equipment Allowance-Ini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 - Uniform and Equipment Allowance-Addi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 - Clothing Replacement Allowance (CM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5 - Family Separation Allowance (FS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6 - Interim VH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7 - VHA 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 - Variable Housing Allowance (VH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1 - Disability Seve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 - Discharge Gratu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 - Lump-Sum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 - Lump-Sum Lea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 - Readjustment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 - Severance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 - Personal Exp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 - Travel and Lodging Allowance (TL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 - Entitlement Adv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 - Quasi-Adv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- Basic Allowance  for Subsistence (BAS) (Supplemental or Pror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50120" y="528480"/>
            <a:ext cx="652644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X OF SERVICE ME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E, ME-.  The sex of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-CAT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type of person sharing quarters with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-NR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, 67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7-, 68, 68-.  The number of persons sharing living quar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-DEDTN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 ADDITIONAL WITHHOLDING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S, FS-.  Soldier has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amount of state income tax with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-XMPTNS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 EXEMPTIONS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S, FS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mptions and allowances (if any) claimed by an individual for state income ta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roll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CL-CMPTN-POSN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COMPENSATION POSI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R, TR-.  Those cert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 positions for which additional pay is prescrib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, HA-, HG, HG-, HK, HK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, HR-, HZ, HZ-.  The current amount of pay held from the soldier for a speci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(soldier’s request, commander’s request, flight requirements not met, du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change, BAH withheld, soldier paid in even dollar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, HA-, HG, HG-, HK, HK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, HR-, HZ, HZ-.  The mid-month amount of pay held from the soldier for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reason (soldier’s request, commander’s request, flight requirements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t duty status change, BAH withheld, soldier paid in even dollar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, HA-, HG, HG-, HK, HK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, HR-, HZ, HZ-.  The next month amount of pay held for a specific reason unl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NEXT MONTH MID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R, HR-.  The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d-month amount of pay held for a specific reason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06080" y="528480"/>
            <a:ext cx="59666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DUTY-ASGN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DUTY ASSIGN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0, 30-.  The progress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ater additional amounts of pay, expressed in steps, authorized for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nel who possess critical skills to adjust his/her total compensation to m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arly make it compatible with similar non-military occupations, thereby foste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ention in critical skill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INDEB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, DG, DG-, DQ, DQ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, DR-, DS, DS-, DV, DV-, DW, DW-, N6.  The total amount of a specifi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owed by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BONUS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NLISTMENT BONUS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R7, R7-, 33-.  Typ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 authorized.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INSTLMT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NLISTMENT BONUS INSTALLMENT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R7, R7-, R8, R8-. 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installment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LUMP-SUM-AUTH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NLISTMENT BONUS LUM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M  AUTHORIZE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.  Indicates that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ive Reenlistment Lump Sum Payment is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MUL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LISTMENT BONUS MULTIPL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R7, R7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ltiplier applicable to a military occupational specialty designed by each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computation of selective reenlistment b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 MEMBER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A.  The SSAN assign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DATE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majority of the DSIS entries.  Effective date a soldier becomes entitl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pay and allowance or the date a status or event begi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,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B, DB-, DC, DC-, DD, DD-, DG, DG-, DR, DR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, DS-, FD, FD-, FF, FF-, FG, FG-, FJ, FJ-, FS, P8-.  The year and month an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OP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VER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year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 overpayment sta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65480" y="666720"/>
            <a:ext cx="61956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SITW-DEDTN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F THE SITW DEDUC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The date the curr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 deduction indicator takes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SITW-ELE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F THE CURRENT SITW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The date the 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ion takes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SITW-XMPTNS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F THE CURRENT SITW EXEM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The date the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  number of exemptions takes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E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 STATE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A numeric code th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state which is the soldier’s taxing autho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DETERMIN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A, SB, SH, SJ, SK, SL, SM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, ST, SU, SV.  The condition of a soldier’s location with respect to duty s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duty or absence from that location established an immediate or potential change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’s military pay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majority of the DSIS entries:  The date a soldier is no longer entitled to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pay or allowance, or the date a status is discontin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,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B-, DC-, DD-, DG-, DR-, DS-, FD-, FF-, FG-, P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year and month an entitlement stop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25160" y="388800"/>
            <a:ext cx="569844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-OPAY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OP OVER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year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 overpayment en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PED-PAID-THR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ALLOTMENT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-, AC-, AD-, AF-, AH-, AI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-, AN-, AT-.  The year and month a transaction was previously stopped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throug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B-PRO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B PROJ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R, DR-, DS, DS-.  The l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o positions of AMS Code have been designated for fund control and account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PRS-MISD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PPERS MI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39-.  The number of eve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als not eaten in a government mess for which a soldier is entitled to as pro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supplemental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-ERROR-COD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ROR CODES IN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N.  Contains up to thr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ecutive three-digit error codes that apply to a specific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-OUTPUT-CTL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UTPUT CONTROL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N.  Identifies the sor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as required by Daily Transaction Record processing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transactions required and their placement for subsequent writing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 Control to the DJMS Processed/Rejected File and/or Reject/Inquiries Fi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FM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CTIVE FEDERAL MILITARY SERVIC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T, TT-.  The date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lects all periods of active federal service whether in a commissioned, warran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 or enlisted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-AUTH-CI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,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G.  This represents the ci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residence for a soldier for tax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-AUTH-STAT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,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G.  This represent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of legal residence for the soldier for state income tax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 CO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ther or not FICA and/or FITW wages were over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30120" y="528480"/>
            <a:ext cx="62276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L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MPORARY LODGING ALLOWANCE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, 79-.  The types of tempor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dging allowance authorized for a specified period of time when forced to occupy hot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ke accommodations incident to a permanent change of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PROJECTED TERM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S, TS-.  The projected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years for which an individual will voluntarily enlist in the US Army compon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ALOT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 all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d against military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DAYS-RRB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DAYS REGULAR REENLISTMENT BONU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Total number of days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reenlistment bonus is paid.  (Computation is based on 360 day year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DEDTN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of all deductions m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a month, except allot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DEDTN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of all deductions m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mid-month, except allot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H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 pay held fro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for a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-DAYS-ACC-LV-SETTL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DAYS ACCRUED LEAVE SET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The total number of leave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d in This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-DAYS-SRB-P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DAYS SELECTIVE REENLISTMENT BONU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7, R7-.  Total days sele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ACTION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N.  Identifies DJMS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-RT-N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LECTRONIC FUND TRANSF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IT ROUTING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H, LH-.  The transit rou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is used for sure pay/direct deposit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8701200"/>
            <a:ext cx="5580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67480" y="596880"/>
            <a:ext cx="582660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STE-NAM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USTE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A, LA-.  Name of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designated or appointed by a court to receive and account for the fund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soldier who is mentally incapacit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FINEMENT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NW, SK, SK-.  The type of confinement statu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rmy soldier as it relates to military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LITARY LEAVE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NB, SB, SB-.  The kinds of military leave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be authorized a soldier of the Armed For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-DIS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HARACTER OF DISCHAR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, N7, TV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ner  in which an individual conducted himself/herself during a period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as evidenced on the discharge certificate issued to individuals separa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 the Army.  Also to reflect any revisions that were subsequently granted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through Discharge Review Board 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-OF-AC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 OF AC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, AH, AH-, AI, AI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, AL-, AT, AT-, LH, LH-.  Type of financial organization to which n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is deposi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UNISHMENT, UNIFORM COD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LITARY JUSTICE,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The month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ne, forfeiture, or detained pay charged against a soldier unde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form Code of Military Just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-SOUR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RISDICTION SOURCE, UNIFOR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DE OF MILITARY JUST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Level of Cou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officer having jurisdiction under UCMJ to impose punish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UNISHMENT MONETARY, TYPE, UNI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DE OF MILITARY JUST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Mone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nishments under the Uniform Code of Military Justice which requir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holding of all or a part of the pay and allowance of a soldier of the Unifor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EA-ADTNL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NIFORM AND EQUIPMENT ALLOWANCE, ADDI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60-.  Uniform and equip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authorized a soldier upon each entry or reentry on active duty or 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for training as a regular officer appointed from ROTC, a Reserve officer,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officer without compon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527040"/>
            <a:ext cx="11295000" cy="60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" y="596880"/>
            <a:ext cx="566064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EA-IN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NIFORM AND EQUIPMENT ALLOWANCE, INI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59-.  Uniform and equip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authorized a soldier upon each first entry on active duty or active du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raining as a regular officer appointed from ROTC, a Reserve officer, or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 without compon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SED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USED FISCAL YEAR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days used charged to the soldier’s account during the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AI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AIR CONDITIO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if air conditioning is valid for overseas housing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ELE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ELECTRI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and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electricity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HE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HE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heat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TRAS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TRA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trash removal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WATER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water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-REG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 REGISTER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N, AN-.  A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to Class N or D allotment transaction registers sent to the Vetera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ist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ERIFY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DATE VERIFICA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K, TK-.  Indicate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lidity of the pay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OU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OUCHER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1-, C2-, C5-, NQ, N4-, N6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, PB-, PC-, PD-, PF-, PJ-, PK-, PL-, PM-, PQ-, PR-, PV-, PX-, PY-.  A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in unbroken sequence from 1 at beginning of the fiscal year to the clo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42360" y="596880"/>
            <a:ext cx="559044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2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2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V, SV-.  Month-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tructure will issue a W-2 to the separated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-CZ-XCLU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TAXABLE WAGES COMBAT ZONE EXCLU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L, FL-.  To identif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ditions prescribed by law under which Federal taxable wages are exclud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ing FITW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1-TIME-ENTLMN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ONE TIME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J-, FS-.  A one ti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which is subject to FITW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CLCT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,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, FJ-.  FITW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 collected for which a “certificate for Income Tax Adjustment” is iss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A, FA-, FC, FC-, FJ, FJ-.  Wages paid fo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month subject to F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B-, FS, FS-.  Taxable wages earned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A, FA-, FC, FC-.  FICA wages to be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month, if nothing chang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B-, FJ, FJ-, FS, FS-.  Wages earned nex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OPAI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,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FITW wage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 collected requiring a “Certificate for Income Tax Adjustment”   issu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 after collection action is completed or at the end of the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Y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A, FA-, FC, FC-.  Wages paid for the calend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that were subject to FICA ta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J, FJ-, FS, FS-.  Wages paid for the calend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that were subject to federal ta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8400" y="596880"/>
            <a:ext cx="558288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IV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BENEFIT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M, TM-.  A pay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ion made by a reserve soldier called to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ACTN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AC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N7, N9-.  A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to identify and control  transactions input into the compu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CS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XCESS FISCAL YEAR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days used during the fiscal year in excess of the prescribed limit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d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CS-LV-DAYS-CLCT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CESS LEAVE DAYS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Number of day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leave for which collection was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MSN-NR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MISS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N7, N9-.  A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to identify and control a group of DJMS transactions input into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compu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TEN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SON FOR EXTENSION OF DATE OF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U, TU-.  The reas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n individual’s Date of Separation has been changed to a later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TNSN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OLUNTARY EXTENS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A sequenti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identify the number of the voluntary extension that the member is enter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TNSN-PAY-ELE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SION PAY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8, 18-.  Indicates i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selects money, leave, or leave with trav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-MO-CH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N, AN.  The year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f chan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-MO-DAYS-SV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, MONTHS, DAYS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 RESERVE LUMP SUM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73-.  Number of year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s, and days service for which a soldier is entitled to reserve lump s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-MON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 ,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Y, RZ.  Identifies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month and a specific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34800" y="458640"/>
            <a:ext cx="59533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S-OF-CONTRA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OF CONTRAC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, R6, R6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s of contract.  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S-SVD-MED-DENT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SERVICE - MEDICAL OR DEN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0, 20-, 24, 24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number of years creditable service for computing medical or dental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S-SVD-MIL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OF SERVICE COMPLE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C, TC-.  Tot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years of creditable military service comple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ZIP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ZIP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66, 66-, 67, 67-, 68, 6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p code used for Variable Housing Allowance enti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74800" y="4683240"/>
            <a:ext cx="5731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06440" y="388800"/>
            <a:ext cx="586152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ED HISTOR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Hyphen -In between the name of the format ID and the word HIS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OPEN-DATA  (ENTRY-OPEN-D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reated to identify when an DSIS entry is originally cre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when the latest change to a DSIS record occurred.  All DSIS fixed variable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ies  contain an E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Processing Date (YYMMD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Updat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96 - entry converted from JUMPS-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98 - entry created by 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99 - entry created by mass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Processing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Mid-Mont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1 - Processed before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2 - Processed after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CLOSED-DATA  (ENTRY-CLSD-D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reated to identify when an MMPA entry is closed.  All MM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month closed and history entries  contain an EOD and ECO.  When an MM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 closes, the original EOD is retained and an ECD is built based on th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MMPA entry entered his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Process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Updat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96 - entry converted from JUMPS-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98 - entry created by 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99 - entry created by mass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Processing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Mid-Mont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1 - Processed before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2 - Processed after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325440" y="138240"/>
          <a:ext cx="5497560" cy="80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38240"/>
                    <a:ext cx="5497560" cy="80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677960" y="7891560"/>
            <a:ext cx="4203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TNL-AMT.........................................................………………..… ................6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V................................................................................……………….............6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VANCE PAY CATEGORIES...............................................………………..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FMPC MATCH FLAG..............................................………………..............….4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65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2200" y="2147760"/>
            <a:ext cx="4383000" cy="12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-NM....................................................................................................................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-NM-MM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E-ID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E-NA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MT-CLASS-PAY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MT-STOP-CODE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MT-VA-RSN-CODE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WBL-TVL-TIME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1-TI-PAY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ANL-PYMT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FRGVN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INDEBT-TOTAL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INSTLMT-PMT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SPEC-DEDTN-NM-MM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SPEC-ENTLMT-YTD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TOT-ENTLMTS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EIC-BENEFITS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ROP-CODE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ROP-IND.......................................................................................................... 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A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A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R-DEPRT-CODE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RIVE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V-CONUS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V-HFP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N.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 NR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-AMT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-CM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-DUE-CM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NK-INS-NAME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H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vernment Quarters Adequacy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vernment Quarters Assignment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.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Allowance for Subsistence Type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N.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N SSAN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nefit waiver, Prior Service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F-ENTRY-CZ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F-PRIOR-FY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DISPOSITION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OWNERSHIP DESIGNATION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US-RCUPD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56680" y="2147760"/>
            <a:ext cx="2916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240" y="692280"/>
            <a:ext cx="457560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GENT-ID....................................................................................................................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OTMENTS............................................................................................................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OUNT TYPE...................................................................................................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DISPOSITION..............................................................................................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OWNERSHIP DISIGNATION......................................................................1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SS PAY..........................................................................................................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ASH CODE........................................................................................................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MAT ID’S.......................................................................................................…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ENTS TYPE.................................................................................................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OTMENT AMT.......................................................................................................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8681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6160" y="874800"/>
            <a:ext cx="50767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P-AMT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ANCH-OF-SERVICE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KFSTS-MISD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PASS-COD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L-YR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L-DCS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USE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BPO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CS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C-TOT-AMT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F-TO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L-TO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T-TO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CTN-AMT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CTN-DAT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EAR-ACCT-IND-I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D/his/her………............................................……………………………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ST-BAQ DEPENDENT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T-BAQ-DEPN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T-DEP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A-TYPE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PTR-ENTRY-NR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PTR-OPEN-STAT-ENTRY-NR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TRL-COD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TRY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-OWN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-OWN-BEN-GENR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-OWN-SSAN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S FORMAT IDS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BAT ZONE LEAVE BALANCE INDICATOR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TR-PAY-COND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GENERATED ACTION INDICATORS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OPEN STATUS ENTRY NUMBER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PAYMENT CONDITION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PROCESSING CONTROL CODES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TYPES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 CODE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VERSN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IES OF THE WORLD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FOR GOLD FLOW REPORTING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D LINE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93800" y="874800"/>
            <a:ext cx="31896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0031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1680" y="1012680"/>
            <a:ext cx="502668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W STAT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TGY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TGY-WANTED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AMT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AMT-CONTN-PAY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AMT-RRB-RCUPTD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TO-DAT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-BAL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-COD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-BAL-INDCTR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-CON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-CERT-INCM-TAX-ADJ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-PROCSD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ILY-RAT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AWAS-EXPER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OF-SEPERATION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PD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RCV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VOU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ACC-LV-SETTLE-SAVED-PAY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ALWBL-TVL-TIME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CNF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COUN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LOST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OPD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PD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TDY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LDS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AMT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CM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ELECTN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FUTR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MM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NM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NM-MM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RS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SUSPNS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YT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 Categories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 Codes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Code 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Type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93800" y="1039680"/>
            <a:ext cx="31896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0697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8600" y="1150920"/>
            <a:ext cx="53586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Codes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Held Pay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LI Option Tabl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Code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Sourc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Type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CONU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FD/HFD-AREA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PDS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HFP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NRS-MISD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A-STOP-CH-RS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CH-GRA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STN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STN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ER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E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E-PRIOR-INDICATO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S.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SN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T-OF-PMT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-CNTRY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COUNTRY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-NON-CO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D..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-CM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..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-DATE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-DATE-LAST-TRAN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-DATE-OBL-MORB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CM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MM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NM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YR-TO-DATE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-OF-MONTH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-W-OFF-STAT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MENT-VOIDNC-WAIVD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mpanied Statu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 Type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st BAH Dependent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95400" y="11509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69720" y="250920"/>
            <a:ext cx="59004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3640" y="1082520"/>
            <a:ext cx="508788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dequacy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ssignment 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Statu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FU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ALOT-CM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ALOT-NM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=MM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NM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NM-MM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S-MM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S-NM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S-NM-MM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-CLSD-DT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-OPEN-CLS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-OPEN-DT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OD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-CZ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-HFP-AREA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-HFP-BF-PR-ENL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FY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INC-C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INC-N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INC-YTD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B-BONUS-TYPE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TS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-CODE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PIRATION-TERM-OF-SERVICES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PRTN-DATE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-NR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-REASO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 Additional Withholding Indicator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 State Codes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REFUND-WAGE-BASE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WAGES-CLS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WAGES-OPAI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WAGES-OPAID-CURR-BAL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D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ADDITIONAL WITHHOLDING INDICATOR.........................................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28440" y="1082520"/>
            <a:ext cx="318960" cy="10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697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082520"/>
            <a:ext cx="498384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REFUND-WAGE-BASE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WAGES-EARN-NM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EAGES-OPAID-CURR-BAL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XED GROUP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ASH-CODE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-LANG-CODE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-LANG-DIFF-CAT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-LANG-SKILL-LVL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s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s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Identification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randum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/Continuation Pay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ER-NAM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A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C-CAT-CODE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D-COD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-GROUPS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 Codes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Codes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Y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R-OW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D-FL-CNTRY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LD-FLOW-COUNTRY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DEQUANCY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SSIGNMENT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T-AGENCY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93800" y="10825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681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7680" y="1082520"/>
            <a:ext cx="441540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-DSABLTY-SEVRNC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-LAST-AGREE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OUP-WANTED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INDCTR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M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N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NM-MM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Held Disposition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ason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FP-FDP-QUAL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GH-ALTI-LOW-OPEN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/her CURRENT MONTH CLOSED GROUP………………………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/her GROUP………………………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AS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EDIATE ACCESS STORAGE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-CARE-OF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EN-PAY-TYPE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ENTV-QUAL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SV-MOS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CTR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-TYPE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COD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CODE TABLE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TYPE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JD-WND-CMBT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LMT-NR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MT-NR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DCII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DCIII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TR COUNTRY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INT FEDERAL TRAVEL REGULATION COUNTRY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INT TRAVEL REGULATION COUNTRY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TR-CNTRY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TR-LCTN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MPS-IAS-AREA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DEDTN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DOS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22200" y="10825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69720" y="45864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9440" y="1082520"/>
            <a:ext cx="456912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GR-AUTRZD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MMPA-CHNG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ea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AND EARNING STATEMENT REMARKS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bat Zone Leave Balance indicator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ettlement Cod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ENTRY, OPEN, CLOSED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, REMARKS GROUP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Clos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Codes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unt Type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ies of the World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 Op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-DAYS-CFY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 DAYS CURRENT ENLISTMENT INDICATOR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MONTH-AMOUNT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MP-SU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V-DAYS-PD/USED-LAST-TRANS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J-FORCE-PROG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-FILE-REF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-CF-CODE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-DEN-OFF-CODE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IDENTIFICATION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ersonnel Grades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-ENTRY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RANDUM, FORMAT IDs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D-MONTH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-LV-TYP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LEAVE TYPES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ERSONNEL GRADES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-APPROP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-FUTR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-SUSPNS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FUTURES CODES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SUSPENSE CODES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90600" y="10825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381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3280" y="874800"/>
            <a:ext cx="50875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der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s and Abbreviations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CATEGORIES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s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Identification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randum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/Continuation Pay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DATA DICTIONARY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-ENTRY-ID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GROUPS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xed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s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/her Current Month Closed……………………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Open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NTHLY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NTHLY-RATE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-DA-CREATED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RY-ADJ-TYPE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FORF-DETN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PURCH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SVC-DIS-PAY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SVC-SEP-PAY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SVC-SEV-PAY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VEMENT REASON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VMNT-RSN-COD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S-PAY-DAT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LTR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BR-LV-DAYS-PD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22160" y="874800"/>
            <a:ext cx="5382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&amp; 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34160" y="250920"/>
            <a:ext cx="640728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ROCESSING CONTROL CODES (CNTRL-COD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ontrol codes tell you when an entry is open, closed, suspend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has been cancel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-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Open, Suspended for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Closed, or Report, affect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Correction of an overpayment.  (Only DFAS makes the correction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Correction of an underpayment.  (Only DFAS makes the correction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A cancelled DSIS entry that results in recoupment of entitle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Correct a closed entry that has no monetary effect on the DSI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Audit purpose only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- Identifies a period of time that the soldiers status does not allow for input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Computer processing control codes 3 and 4 identify a corrective action.  When mont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closure are no longer current, entries are present for audit purposes only. 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ermine amount of payment in a prior pay period, consider only entries with comp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ing control codes 0, 2, or 9 with dates within the period you compu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When a soldier enters a status that does not allow an entitlement to pay, the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handled as follows.  If status i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Reported - the computer closing entries for each entitlement affected o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entry is treated as a period of non-entitlement and is subtracted from the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determine the amount soldier is due.  These entries are commonly referred to as 9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Start - the computer enters a 9 on the record and suspend the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entry by putting a Y0 entry closed data c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Stop - the computer closes the 9 entry on the record and restores the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 by removing the Y0 entry closed data c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When on leave, enlisted soldiers have a “9” code for BAS.  In This case, a closed 9 entry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t on the record for each leave reported.  This entry gives soldier leave rations and acts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iod of non-entitlement to any open or closed BAS entry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8015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5880" y="831960"/>
            <a:ext cx="46378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-DAYS-ENTLMT-ACP....................................................................…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E-INDCT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-ACRD-FY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EMT-IND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-ACRD-LV-BAQ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-COLA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-P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OF-EXTENSIONS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XMPTN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LD-SSAN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-AGENCY-CODE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N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IG-RTG-DATE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D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-4-ACT-E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-SSAN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RSHP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SHIP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EOM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M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NM-EOM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NM-MM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SEQ-N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IDIN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/USED-TO-DATE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AUTH-NON-PAY-RSN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CLASS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DAT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DEDTN-TYPE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Disposition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ason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HELD-DISPSTN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HELD-RSN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ING ADSN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 OP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Payment Condition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97600" y="831960"/>
            <a:ext cx="309600" cy="158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015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4880" y="831960"/>
            <a:ext cx="51224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T-TYP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EOM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MM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TO-DATE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NEL GRADES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CNTGE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V-DOS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V-GR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BF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DOE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DOE-INDCT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DOE-INDICATO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EAD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SERVICE-BENIFIT-WAIVER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ERVICE INDICATOR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VC DEP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CACY ACT FLAG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VACY ACT STATEMENT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D-DAYS-GRNT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S-DAT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NCY-PAY-TYPE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ARR-DAT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DDLDS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ST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XTNSN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ADQ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ASGN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DAY-ARR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DAY-START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DAY-STOP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NK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CPNT-TYP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DJ-MOP-PREV-PD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HELD PAY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IPENT TYPE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MP-PNDG-INDCT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/CONTINUATION PAY, FORMAT IDs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TRY-GR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ND-AMT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ND-INDC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ND-TYP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-PAY-AUTH-DAT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D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D-SPEC-PAY-HELD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32240" y="1039680"/>
            <a:ext cx="34776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031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5360" y="1012680"/>
            <a:ext cx="44046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S-INDCT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-LEASE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-STAT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STATUS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E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T OF COUNTRY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URN-FD/HFP-AREA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RN-PDA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LTNSHIP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PT-SURVEY-NR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-ELCTN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INDCTR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-RCUPD-AMT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/SRB-TAX-XCLUSN-ID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-TYPE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DNT-CNTRY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DNT-NON-CONUS-ST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-CODE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-HELD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-SUSPN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TRN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DN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CATEGORY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N-PAY-ADJ-COD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N-MO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COMPONENT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ING ADSN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TLMNT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X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LI OPTIONS TABL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ARE-CAT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ARE-NR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-DEDTN-IND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-ELEC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-XMPTNS-NR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CL-CMPTN-POSNS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-MM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-NM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-NM-MM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DUTY-ASGN-PAY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62600" y="1039680"/>
            <a:ext cx="4842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20000" y="320760"/>
            <a:ext cx="1105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70320" y="388800"/>
            <a:ext cx="282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6520" y="944640"/>
            <a:ext cx="49381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INDEBT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COMPENSATION POSITIONS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BONUS-TYPE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INSTLMT-NR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LUMP-SUM-AUTH-IND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MUL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AN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OPAYMT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SITW-DEDTN-IND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SITW-ELEC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SITW-XMPTNS-NR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-CODES &amp; ABBREVIATION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-ID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S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S-DETRMT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Type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erminant Codes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ies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Area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Entry, Open Closed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Type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vement Reason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Category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-OPAYMT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PED-PAID-THRU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-PROJ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RS-MISD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GROUP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 Codes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Suspense Codes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C-COMP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C-MBR-SSAN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-ERROR-CODES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-OUTPUT-CTL-CODE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FMSD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 Additional Withholding Indicator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 State Codes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CITY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97600" y="969840"/>
            <a:ext cx="4824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801520" y="45864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400" y="1150920"/>
            <a:ext cx="49518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STATE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COD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 STATE CODES AND ABBREVIATIONS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LA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E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ALOT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DAYS-RRB-P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DEDT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DEDTN-NM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HELD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S-DAYS-ACC-LV-SETTLE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-DAYS-SRB-PD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anch of Servic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 Days Current Enlistment Indicator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DOE Indicato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ervice Benefit Waiver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ervice Indicator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Component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Compensation Position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-ID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-RT-NU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STE-NAM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CODES, CONFINEMENT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-DISCH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-OF-ACCT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-AMT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MJ SOURC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SOURC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TYP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TYP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EA-ADTNL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EA-INIT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-FY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AI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ELC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HEAT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TRASH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WATER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 REASON CODES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2360" y="1150920"/>
            <a:ext cx="3996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936520" y="25092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2240" y="944640"/>
            <a:ext cx="49136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-REG-N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OPEN GROUP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RIFY-INDCT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U-NR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2-INDC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-CZ-XCLUSN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ES-1-TIME-ENTLMNT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CLCTD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C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N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OPAID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YTD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IVR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CTN-NR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CS-FY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CS-LV-DAYS-CLCTD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MSN-NR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TEN-RS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TNSN-NR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TNSN-PAY-ELECTION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-MO-CHNG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-MO-DAYS-SVC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-MONTH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S-OF CONTRACT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S-SVC-MED-DENTL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S-SVC-MIL-PAY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P-CODE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57360" y="944640"/>
            <a:ext cx="39816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99680" y="250920"/>
            <a:ext cx="6494040" cy="87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TION INDICATORS GENERAL INFORMATION (AC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data item that directs  computer programs to act on a 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indicators may be either manually input or computer gener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eric ACTN indicates  processes  to effect the DSIS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     Action             Us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        Start                 Put open entries 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         Stop                 Close open entries 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3         Report              Report events, inclusive dates of entitlements, or 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         Change            Change data in open DSIS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         Correct             Correct erroneous data in a  DSIS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         Cancel              Completely voids the affects of a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7         Increase            Increase the amount to be paid 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         Decrease          Reduce the amount to be paid 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         Pay                    Notify the FAO of amount to be paid to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        Release             Release pay and allowances with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         Suspend           Temporarily suspend debt colle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         Resume             Restart debt collection after susp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        Remit                 Forgive all or part of a debt bal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         Delete                Notify DFAS at Indianapolis that a one-tim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uthorization is not being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1         From  DFAS      Tell FAO what final separation pay authorization 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VENT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Event Code is an alpha character which takes the plac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irst digit of computer generated Action Indicators.  They ar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t for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other than excess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ngev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motion/Demo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Arriv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Depar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WOL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ing in 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                 -                    Desert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asi Computer Generated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ntally In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ss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9160" y="320760"/>
            <a:ext cx="6708960" cy="57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GENERATED ACTION INDICATORS (AC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computer generated action upon an DSIS entry by an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ystem.  The computer generated action indicators are the same as the first six regular 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ors except the first position is alpha.  Each entitlement, deduction, or allotment aff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of an event oriented transaction (computer generated action) is identified to that ev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is accomplished by replacing the first character of ACTN-INDCTR with the last position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FORMAT-ID.  For example:  The ACTN-INDCTR in all entitlements and deductions stop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of PCS departure is  “H3” instead of the normal report ACTN-INDCTR “03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order to understand what causes the computer generated action indicator, look up the num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git in the action indicators list.  This tells  what action is taken (start, stop, etc.).  T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ok up the alpha first character.  This shows the cause.   For example, in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generated action indicator “Z4” the “4” means “changed” and  the “Z” means “mas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te change.”   Therefore, “Z4” means “changed by Mass Rate Change.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RIABLE OPEN AND HISTORY GROUPS OF DS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l information about the Variable open and history Groups.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Stop dates are inclusi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Current Month (CM) balances are balances due at the 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current month after collection/payment has been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The memorandum category contains N9 memo entries.  Thes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teral translations put in by the Finance Center Technicia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Entries appear on DSIS grouped together by category.  Within each category, fix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, then history entries appear.  Each group is in alphabetical order.  If there are multip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tory entries, the most recent entry appears first on DSIS printed through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JMS  Inquiry Syste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  Collection entries (Cl, C2, and C5).  These entries affect pay with a positive impa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6800" y="250920"/>
            <a:ext cx="54990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 TYPE (TYPE-OF-AC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Chec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-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- Sav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CLASS, PAY (ALOTMT-CLASS-PA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data item that identifies the general  purpo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allotment and is the second position of the allotment format 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Definition/Use   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d Allotment                   Purchase of United States Saving   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ity Allotment                Donations to charity drives            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o a spouse,      To provide allotments for spouse,       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er spouse, other          children other relatives to  financ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 Emergency Relief       Donation to the Army Emergency         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ief Fu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me Loan Allotment           Repayment of home loans.                                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Insurance          Payment of commercial life                              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mium Allotment                insurance Premiu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ief and Aid                         Repay Navy Relief Society, Army           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ment Allotment            Emergency Relief, Air Force 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ciety, or American Red Cro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Army does not use thi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Insurance          Payment of National Service or     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mium Allotment                or United States Govern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fe Insurance Premiu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ibutions to the              Soldier’s contributions                       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teran's Education              to their own edu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stance Progra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VEAP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1840" y="320760"/>
            <a:ext cx="559800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finition/Us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Government        Payment of indebtedness to                            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Allotment           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LASH CODE (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Used to stop allotments from proces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- Indicates an active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Indicates the soldier is separating/nonretir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- Indicates the soldier is retiring.  All allotments in effec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fer to the retired pay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-RECIPIENT TYPE (RCPNT-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the allotment recipient according to the typ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ress printed on the allotment check or US 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Individual, Dome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paid to an individual with an address printed on the che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served by the Domestic Postal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Individual,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paid to an individual with an address serv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ternational Postal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Blanket 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any that receives a blanket check to cover a multip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individual allot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Veterans Administ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urance allotments paid to the Veterans Administ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Bo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 for the purchase of a US 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DFAS at Indianapolis use onl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Coded 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check sent to the recipient company identifi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mpany c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- Electronic Fund Transf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any receives allotment payments (checking and savings) via 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osit/Electronic Fund Transfer 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2600" y="388800"/>
            <a:ext cx="497016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- Tape Submi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any receives allotment data on a magnetic tape and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anket che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DISPOSITION (DISPS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where a Bond owner wants his/her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Bond 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- Mailed to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- Mailed to Co-owner or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Mailed to Third Par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- Held for Safekeeping when soldier is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SHIP DESIGNATION (OWNRSH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whether the owner of a bond i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or non-soldier and whether a co-owner or beneficiary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Soldier is owner, non-soldier is co-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Soldier is owner, non-soldier is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Soldier is owner, no co-owner or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Non-soldier is owner, soldier is co-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Non-soldier is owner, soldier is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Non-soldier is owner, non-soldier is co-owner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- Non-soldier is owner, non-soldier is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- Non-soldier is owner, no co-owner or beneficiary is 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 REASON CODES (ALOTMT-VA-RSN-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to the Veterans Administration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a Class N Allotment is being started, changed,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2200" y="250920"/>
            <a:ext cx="55400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   -Dea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    -Section 711 (38 U.S.C. 711), mutiny, treason, spying, desertion,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cientious objector.  Submit copies of appropriate orders directly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V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    -Initial establishment (new insuranc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      -Discontinuance (allotter's reques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      -Discharge (other than court-martial).  Furnish the VA copies of DD For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4, Certificate of Release or Discharge from Active Duty, to determi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sured's permanent address and date of dischar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   -Transfer to or from United States Government Life Insu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        -Transfer to or from United States Government Life Insu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  -Court-martial (other than reason code B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     -Waiver of premiums (VA reques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         -Allotment established in err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     -Disapprov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         -Fraudul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       -AWO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       -Section 724 waiver (38 U.S.C. (724)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 -Miscellaneo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       -Split Case, reestablishment of part of allo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        -Current policy change (change from waiver or direct pay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stablishment of allotments when personnel reenter servic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   -Reinstatement (all input of lapsed polic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        -Change of SSN (with or without other chang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       -Retir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        -Correction of allotment initiated by service depar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  -Correction of allotment initiated by V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1080" y="138240"/>
            <a:ext cx="59302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         -Change or addition to existing insurance allotments in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          -Renew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          -Change in n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BAT ZONE LEAVE BALANCE INDICATOR (CZ-BAL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     -Soldier not in a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 -Soldier is in a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SETTLEMENT CODE (SETLMN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Shows the soldier’s election for sale of leave upon sepa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or first ext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  -No Other Code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  -Cash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sold all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 -Carried Forw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unused leave is carried forward to a new period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  -Carried Forward to Another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unused leave is carried forward when he transfers to another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        -Excess Leave Colle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leave is collected at the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     -Unsett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not paid for unused leave because character discharge w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determined at the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     -Settlement Un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separated under conditions which preclude payme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used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     -Split Leave (Combination carryover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bination of cash settlement and carryover of accrued leav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or entering first ext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     -Old 60 Days (Cash Settlement Unauthorized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imum number of days authorized for leave settlement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        -Settlement Suspended-Acc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, with prior service, no BL entry.  Research prior leave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37800" y="384120"/>
            <a:ext cx="846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1146240"/>
            <a:ext cx="50418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RMS AND ABBREVI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                 DEFENSE MILPAY OFFICE STANDARD INQUIRY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D                         FORMAT  IDENTIF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N                     AC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OD                       ENTRY OPE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CD                       ENTRY CLOSE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N                     SERVICING ST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AS                         IMMEDIATE ACCESS STOR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TRL-CODE        CONTROL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CS                      CUSTOMER INFORMATION CONTROL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R                       MONTH END RESTRUC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                     DEFENSE FINANCE AND ACCOUNTING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360" y="320760"/>
            <a:ext cx="58312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ANCE PAY CATEGORIES (AD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kind of payment authorized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advance of accru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ic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Authorized on permanent change of station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in home port or home y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                   Advance pay for OH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  Basic Allowance             Upon reassignment, or when statio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Authorized                 within U.S. (except Alaska and Hawaii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ist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    Entry (BMT’S)                  Authorized on induction or enlistment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to training or indoctrination cen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 Distant Station                 Authorized when assigned to dista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pay and allowances can not be pai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l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                   Advance pay for CONUS hou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ded Active              Authorized when called to extended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eak in Service             Authorized for permanent change of station 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after break in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mergency                      Authorized for emergency evacuation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acuation                      dependents as ordered by 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REASON CODES FOR DEPENDENT DENTAL INSURANCE (DEDTN-RS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p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pouse and one or more 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ole child under 4 years of 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                  - Spouse and child under 4 years of 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70720" y="250920"/>
            <a:ext cx="587556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- Soldier overseas, dependents in C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- Two or more dependents enrolled, remotely located from 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memb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- Initial code used on account at acc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- Sponsor on accompanied tour, family no authorized cover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   - Soldier elects to decline cover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CODE TABLE (INDEBTEDNESS 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ndicates presence on MMPA of any combination of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, DV, DW entries.  This entry is computer generated and is used only for compu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- No applicable entries pre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- DV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- DV and D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- DV and D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- DV and DQ and D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- DQ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- DW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- DQ and D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TYPE (INDEBT-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the type of indebtedness to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which requires collection from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Definition/Use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roneous Payment,               Indebtedness to the United States                  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               because of an invalid paymen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to a soldi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ing excess leave.  (D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6080" y="333360"/>
            <a:ext cx="553824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of Pay and                Indebtedness to the United States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                             because of an advance payment of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to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the accrual of pay 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.  (DV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id Payments                Indebtedness to the United States                  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of overpayment of cas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partial payments to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ing recoupment of 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us.  (DW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rears in Money                    Indebtedness to the United States           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unts                                 incurred by an accountable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ailure to account for funds entrus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him/her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kruptcy Acts Debts          Indebtedness adjudicated under Chapter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of Bankruptcy Act (Public Law 95-598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der which a court order has been issu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 a voluntary request of a soldier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hing Issue Charge           Indebtedness to the United States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clothing issue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F 1219 Receivables             Indebtedness to the FAO for double    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s (substitute check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iginal both cashed by soldier)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honored checks, and check iss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drafts.  (DS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pital Bill                           Indebtedness to the United States for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paid hospital bills for medical servic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Exchange                      Indebtedness to the Post Exchange.  (DS)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orary Lodging              Indebtedness (other than military pay and  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(TLA)                    allowance) to the United States establish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an overpayment of temporary lodg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(TLA)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6280" y="388800"/>
            <a:ext cx="559656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Definition/Use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yment, Federal             Indebtedness to the United States                           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using Authority                    resulting from failure to notif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rtgage Insurance, or           proper authorities of sale of h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FHA Mortgage              on which government is pay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aults                                    premiums and for indebtednes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deral Housing Authority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ault of mortgage payment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Housi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Indebtedness for post housing                                J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ed funds.  (Use code “'M”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housing non-appropriated fu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bts.)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lephone and                         Indebtedness to the United States                          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ity Bills                               for failure to pay telephone and ut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collected Check                 Indebtedness of a soldier to a                          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ary                            commissary for an uncollected check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Appropriated Fund         Indebtedness for nonappropriated fund  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ities                                 activities.  See code F for post ex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bt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 Levy                                 Indebtedness established by the Internal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venue Service by a Notice of Levy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Travel Advance          Indebtedness to the United States for                        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Repay Travel Costs          advance or excess travel allowance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herwise unauthorized cos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 of a soldier or dependent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of Survey/                   Administratively determined indebtedness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Property            to the United States for loss or damag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 or Damaged                   government property.  (D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usehold Goods--               Indebtedness to the United States for       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Cost or Weight         excess weight in shipment of house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House Trailer Excess       goods or excess cost of moving a h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s                                      trailer.  (DR/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38400" y="69840"/>
            <a:ext cx="553860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Definition/Use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pend, Al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Indebtedness to the United States for 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ensation received from state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y, municipal, or privately own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pitals by a medical officer for medic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s performed there, includ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pend debts for Army Reserve Offic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w on active duty.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tary Punishment           Indebtedness caused by Article 15                    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court martial action.  (Valid only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-DT, Indebtedness Re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chedule.)  (DF/D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ition Assistance                Indebtedness to the United States for                  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ment of tuition assistance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aulted student loan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                      Indebtedness for all other types not                    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vered in data codes 1 through 4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through U.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.I. Bill                                   Deduction for G.I. Bill.  (DS)                                  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SON FOR HELD PAY (PAY-HELD-RS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        - Fines pending appellate 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     - Forfeitures pending appellate 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     - Forfeitures pending liquidation of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ank     - Not applic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GLI OPTIONS TABLE (OPT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authorized insurance protection choices avail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soldiers under the Servicemen's Group Life Insurance 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-     No Coverage     6-  $6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   $120,000            I-   $18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    $1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7-  $7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-    $130,000           J-  $19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     $20,000               8-  $8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     $140,000           K- $20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-     $3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9-   $9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     $15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-     $4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-  $10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     $16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-     $5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B-  $11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-     $17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5440" y="320760"/>
            <a:ext cx="63543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 SOURCE (UCMJ-SOUR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level of court having jurisdiction under the Uni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 of Military Justice to impose punish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- General Court-Mar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- Special Court-Mar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- Summary Court-Mar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 TYPE (UCMJ-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monetary punishments under the Uniform Code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stice that require withholding all or a part of the soldier’s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- Not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- Partial forfe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- Total forfeitu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- F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ADDITIONAL WITHHOLDING INDICATOR (INDCT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- No additional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- Yes, additional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, STATE CODES AND ABBREVIATIONS (TAX-AUTH-STA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Abb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laba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lask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rizo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rkans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Californ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Colorad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Connecticut               009                          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Delawar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0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Dist. of Col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1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D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Florid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F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                           Georg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G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20" y="388800"/>
            <a:ext cx="47912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Abb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Hawaii                                 01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dah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1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llinois                                 01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ndia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ow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1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Kans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Kentuck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K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Louisia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ain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2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aryla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assachuset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chig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nnesot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ssissipp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ssour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onta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brask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vad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Hampshir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Jerse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Mexi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Yor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orth Caroli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orth Dakot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Ohi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3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O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Oklaho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Oreg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Pennsylvan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erto Ri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P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Rhode Isla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South Caroli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South Dakot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Tennesse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T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                           Tex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048                              T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                           Ut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049                              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                           Vermo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0                              V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rgin Islands                                                         V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                           Virginia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1                              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                           Washington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3                             W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                           West Virgin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4                             W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5                           Wisconsi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5                             W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                           Wyomi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6                             W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         No state declared. (Must designate within 30 days.)           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         Soldier is a legal resident of another country.                     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 The following codes are reserved for possible future us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03); (07); (14); (43); and (52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0400" y="320760"/>
            <a:ext cx="55677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DISPOSITION  (PAY-HELD-DISPS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the disposition of pay held from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- Released to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- Released to Allott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- Credited to Military Pay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credited to a Militar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     - Credited to Soldier's H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credited to Soldier's Ho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  - Applied to an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applied to his/her/her/her/her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  - Repay Indebtedness and Released to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repay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.  The remaining balance of pay held is releas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  - Repay Indebtedness and Released to Allott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repay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.  The remaining balance of pay held is releas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  - Repay Indebtedness and Credited to Militar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ion. Pay held for the soldier is released to repay the soldier's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.  The remaining balance of pay held is credited to the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ay Appropri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     - Repay Indebtedness and Credited to Soldier's H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repay the soldier's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emaining balance of pay held is credited to the Soldier's Ho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4640" y="320760"/>
            <a:ext cx="605520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- Release from one "Pay Held Reason" to another "Pay Held Reas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rom the soldier is moved from one Pay Held reason to anot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- Credited to Soldier's Home and Military Pay Appropri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rom the soldier is credited to the Soldier's Home Permanent F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the Military Pay Appropri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REASON (PAY-HELD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the reason why a portion or all of a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was or is being 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- Soldier's 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at the request of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- Detain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temporary withholding of pay resulting from non-judicial punishment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nor offenses but not from a court-marti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- Fines Pending Appellate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es withheld as the result of a court-martial pending appel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- Forfeitures Pending Appellate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forfeitures held as the result of a court-martial 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letion of appellate 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   - Gar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- Forfeitures Pending Liquidation of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forfeitures held pending liquidation of an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- Duty Status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because soldier's duty status changed due to AWOL, confined, deceas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ing, deserted, void or voidable enlistment, or mentally incompet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- Soldier Must be Paid in Even Doll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s less than a dollar are held making a soldier's net pay whole dollar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ems from requirements levied by some duty locations or foreign cou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   - Soldier's DSIS Out-Of-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because the soldier's DSIS is out-of-bal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8240" y="320760"/>
            <a:ext cx="572436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 TYPE (TYPE-OF-AC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type of account to where the soldier's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directly deposi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- Checking ac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   - Savings ac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UNTRIES OF THE WOR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independent states and their dependencies and 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eas of special sovereignty; i.e., areas of quasi-independence, areas with spec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vereignty, areas without sovereignty, political regimes not recognized b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, and outlying areas of the United States including islands in dispu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for Gold Flow         GLD-FL-CNTRY      COFD        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other than the United States where a disbursement enters the interna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 of pay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Country                        DUTY-CNTRY          COFB        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reign country where the soldier's permanent duty station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t of Country           RSDNT-CNTRY         COFC        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reign country where an individual establishes his/her leg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ce or domicile.  This may be different from home of 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TR Country                     JTR-CNTRY               COFE        20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untry identified in the Joint Travel Regulation, Appendix 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ies and Codes.  Countries of the world and their data codes u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our military pay system ar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bania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erican Samoa 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orr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guilla British dependent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tarc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                 -                    Antigua and Barbu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                 -                    Argenti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9000" y="320760"/>
            <a:ext cx="6516720" cy="66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ERAL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SIS is a Data Base type file that contains current and historical data pertaining to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.  The record span or Immediate Access Storage (IAS) is the current 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plus 11 prior calendar month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re are indicator and transaction codes throughout each entry that tell the inquiry clerk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f an entry is current (OPEN) or past (CLOSED/HISTORY), indicators to sh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n the transaction was input, if it processed before or after mid-month; and who origin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ransaction (input or computer generated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consist of 6 groups.  They ar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Fixed - Contains the administrative data and two entitlement records (01-BP &amp; 35-BA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are common to every pay account and are always pre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Variable open - Reflects all entitlement/status/debts that effect current pay (EXCEPT 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BAQ IN THE FIXED GROUP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history and current month closed - Contains historical entries, i.e., entries established b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transaction; entries that are continuing but dropped to history by a stop/change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rection/cancellation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Futures - Used for entitlement actions that are known to be required at a specific fu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:  EXAMPLE - Clothing Replacement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  Suspense - Use This group to establish transactions where it is important that input is made in ”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ly manner, such as:  an “SG03” (ARV PCS) is received within “X” number of days after the “SH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DEP PCS) is inp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  Leave and Earning Statement (LES) Remarks - An entry is established in the LES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ransactions that process affecting a soldier’s pay for curren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SIS LES remarks contain an action code, format code, effective date, and the Juli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the transaction is processed.  This coded information is transcribed to the soldi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in a phrase that is easy to underst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8360" y="320760"/>
            <a:ext cx="626112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                -                    Ashmore and Cartier Islands 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 Includes Macquarie Is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ma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Turks and Caicos Islands, separate UK colon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ker Island 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sas DaIndia 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rmuda 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tsw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uvet Island Norweg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tol de Rocas, Arquipelago de Fernando de Noronha, Ilh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 Trinidad, Ilhas Martin Vaz, and Penedos de Sao Pedroe Sa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ul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Indian Ocean Terri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dependency; Chagos Archipelag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negada, Jost Van Dyke, Tortola, and Virgin Gor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unei UK protected st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r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pe Ver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yman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dependency; includes Grand Cayman, Cayman Brac, and Litt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y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Easter Island, Isla Juan Fernandez, Isla San Feli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Isla Salay Gomez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5240" y="250920"/>
            <a:ext cx="650952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ina, Also see Taiw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ristmas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dependence in the Indian Oce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pperton Island 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cos Islands Australian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San Andreas y Providencia and Isla de Malpel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                 -                    Comoro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njouan, Grande Comore, Moheli, and other smaller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Mayot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F                 -                    Con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W                -                    Cook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 associated state; includes the atolls of Dang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hiki, Penrhyn, and Rakahange which the United States claim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oral Se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osta R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Isla Del Coco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u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ypr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zechoslovak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enma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Bornholm. Excludes Greenland and Faroe Is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jibou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omin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ominican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cua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Galapagos Islands (Archipielago de Colon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gy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l Salva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quatorial Guin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ises Rio Mini and the Islands of Fernando Po, Annoba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isco, and Elobe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thiop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urop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alkland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 claimed by Argentina; includes West Falkland, E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lkland, South Georgia, and South Sandwich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aeroe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of the Danish real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ij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Viti Levu, Vanua Levu, and Rotuma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in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tains only to metropolitan France, excluding French Guiana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lynesia, French Southern and Antarctic la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deloupe, Martinique, New Caledonia,  Reunion, sain Pier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iquelon, and Wallis and Futuna, all of which are overs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istrative divisions of F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3040" y="320760"/>
            <a:ext cx="68036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G                -                     French Gui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department of F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P                -                     French Polyne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territory of France; includes the Society Islands, Tuamotu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chipelago, Marquesas Islands, the Iles Australes.  Excludes Cleppert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                -                     Island French Southern and Antartic 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territory of France; includes Amsterdam, St. Paul, Kerguel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Crozet islands.  Terre Adelie (French claimedsector of Antarctica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included in This entity (see ANTARCTICA).  The United States do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recognize sovereignty in Antarctica, therefore Terre Adelie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d from This ent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B                -                    Gab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B                -                    Ga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Z                -                     Gaza Str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of former Palistine mandate; includes cite of Gaza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virons bounded by the Mediterranean, United Arab Re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rman Democratic Republic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rmany,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four secto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rmany, Federal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ilbralt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orioso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nish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; includes southern Grenadine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delou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department; includes Grande-Terre, Basse-Ter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les des Saintes, Iles de la Petite Terre, La Desirade, 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int-Barthelemy, and northern St. Mart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erns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inea-Bissau,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y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rd and McDonald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2840" y="250920"/>
            <a:ext cx="59684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ng Ko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wland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e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Amindiv, Lakshadoweep, Minicoy, Andaman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bar islands. Also (de facto) Goa, Daman, and Diu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kki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                  -                    Indone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West New Guinea and former Portuguese provinc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uguese Tim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aq-Saudi Arabia Neutral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Northern Ire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n May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 division of Norw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 (Includes the Ryukyu Islands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Ryukyu Bonin and Volcano Islands, and Islands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shino-shima, and Okino-tori-shimi, and Minami-torishim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               -                     Jarvis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rs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ston Ato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an de Nov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ampuchea, Republic of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Formerly Cambodia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inqman Ree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Gilbert Island, Fanning Atoll, Washington, Island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Line Island, Banaha, Caroline, Christmas, Flint, Mald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buck, Vostol, Birnie, Gordner, Hill, McKean, Phoenix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dney, Canton, Enderbu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orea, North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emocratic People's Republic of Ko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9760" y="250920"/>
            <a:ext cx="614088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orea,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ca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uguese overseas provi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d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n, Isl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tin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provi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Rodriques and Diego Garcia Islands; Agalega Islands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Cargados Carajos Shoa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ot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ritory of F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dway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a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gol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serr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rroc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bia, (formerly South West Africa Namib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u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vass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Netherlands Antilles, (see NA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herlands Antil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of the Netherlands realm; includes Aruba, Bonaire, Curacao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ba, Sint Eustatius, and southern St. Mart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6760" y="250920"/>
            <a:ext cx="61988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Caledo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territory; includes Ile des Pins, Loyal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s, Ile Houn, Iles Belep, Iles Chesterfield, and 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lp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Stewart, Chatham, and Kermadec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Corn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folk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thern Marianna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administer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Svalbard and Jan Maye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Khuriyra Muriyr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Pakistani-administered Jammu and Kashm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lmyra Ato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rea formerly known as Canal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pua and New Guin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; includes the Bismarck, and Louisi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chipelagos, the Admiralty, D'Entrecasteaux, northern Solom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ougainville Buka, etc.), and Trobriand Islands, and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s of New Britain, New Ireland, Woodlark and associ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cel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uted islands in the South China S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tcairn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: includes Henderson Island and Ducie and Ceno atol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Danzig and (de facto) areas of 1937 Germany east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der-Neisse L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Azores and Madeira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erto Ri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onwealth associated with the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t. Hele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; includes Gough, Inaccessible, Nightingale Is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4400" y="250920"/>
            <a:ext cx="631152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t. Lu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t. Pierre and-Mique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. Vincent and the Grenad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n Mari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udi Ara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ychel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lphonse, Bijoutier, and Francois Islands; St. Pier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et Cosmoledo Group; the Amirante I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thern Solomon Island constitutes part of Papua New Guinea P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Walvis Bay, and Marion and Prince Edward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Balearic and Canary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ratly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uted islands in the South China Se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i Lan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ri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alv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wegian territory; includes Spitsbergen and Bjornoy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azi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Island of Taiwan and Pescado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zania, United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kela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 territory includes Atafu, Fakaofu, and Nukuno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ol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inidad and Tob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omelin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ust Territory of the Pacific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-adminstered; includes the Caroline, and Marsh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 groups. Excludes Northern Mariana Island, CQ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Tuni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Turk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320760"/>
            <a:ext cx="60174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K                 -                    Turks and Caicos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valu (formerly known as Ellico Islan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Arab Emir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on of Soviet Socialist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de facto areas of Estonia, Latvia, Lithuania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thern Kuril Isl., Hahomai Isl., Southern Sukhalin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thern East Pruss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fty states and the District of Columb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per Vol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nuatu (formerly New Hebrid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tican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etnam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rgin Islands of the United 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ke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 WF - Wallis and Futuna French overs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ritory; includes Iles de Horne, Ile Uvea, and Ile Alof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Sahara (formerly Spanish Sahar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w under de facto control of Morocco WS - Western Samo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men (Sanaa) Officially, Yemen Arab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men (Alde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islands of Kamaran, Perim, and Socotr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officially, Peoples Dem Republic of Yemen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mbabwe (formerly Southern Rhodes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All named entries with the letter 'IQ" as the second charac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ir codes are outlying areas of the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ENT OPTION (OP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Payment made twice per month through direct depos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- Payment made once per month through direct depos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7000" y="320760"/>
            <a:ext cx="582192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ERSONNEL GRADES (G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Lieutenant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Major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Brigadier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Colo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Lieutenant Colo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Maj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Capt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First Lieuten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cond Lieuten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                  - Chief Master Warrant Officer (W-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                  - Chief Warrant Officer (W-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                  - Chief Warrant Officer (W-3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                  - Chief Warrant Officer (W-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                 - Warrant Officer (W-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rgeant Major/Command Sergeant Maj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Master Sergeant/First Serge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rgeant First 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taff Serge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rge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pecialist 4/Corp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Private First 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Private E-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Priv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 PAYMENT CONDITION (COMPTR-PAY-CO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 and Use:  A computer-generated code appearing on DSIS payment entr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a pay authorization precedes actual payment.  It tells whether actu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in the amount authorized, and whether 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- Payment equal to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payment equal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ation is assumed in absence of specific transaction to the contr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Payment not equal to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pay and one-time pay authoriz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07000" y="320760"/>
            <a:ext cx="5745600" cy="64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Payment equal to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one-time pay authorizations.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n Pay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e confirmed by detail reporting of pay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Unauthorized one-time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authorized one-time payment has been considered in compu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du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Authorization suppre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one-time pay authorizations.  COMPTR-PROCS-CONTRL-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ll be 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Payment suppre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the pay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ation was deliberately suppressed and no regular payment was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Payment outstanding/PQll sent to FA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- Check cancelled or payment made without authorization (one-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 pay authorization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the pay check was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led and COMPTR-PAYMT-CONDTN-CODE 0 is o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- Check cancelled or payment made without authorization over 15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(one-time pay auth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the pay check was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led and COMPTR-PAYMT-CONDTN-CODE 2 is o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- Unauthorized payment on DSIS for 30 days amount was deducted from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Where reported payment of one-time authorizations is subsequently cancell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TR-PAYMT-CONDTN CODE 1 or 2 is retained, b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TR-PROCS-CONTRL-CODE will be changed to 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97520" y="804960"/>
            <a:ext cx="479340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SIS HEADER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irst three lines that appear on an DSIS printo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1:  Soldier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2:  Privacy Act Data Stat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Month:  Current DFAS at Indianapolis processing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6360" y="250920"/>
            <a:ext cx="59576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FINEMENT TYPE CODES (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  Definition/Use                                    Data Code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by Civil                     Confinement by U.S. or                              1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ies                                      foreign civil author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so used for SNLD (si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line of dut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for Civil                     Confinement by Military                          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ies as a Witness                or civil authorities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ivil wit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 Confinement by military      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waiting Investigation                    authorities awai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Court-Martial                               investigation or trail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rt-martial sent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Confinement by military                         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ntenced                                       authorities while serv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urt-martial sent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Confinement by military                           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oreign Civil Offense                authorities for a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ding Charge or                          civil offense before char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tment                                        indic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Confinement by military                          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oreign civil                              authorities for a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ense-Indicted                             civil offense after hav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charged or indi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foreign cou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Excused                   Sentence overturned,                                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excu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REA (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 - C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 - Overs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  - Overseas to C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3360" y="320760"/>
            <a:ext cx="50036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ENTRY, OPEN, CLOSED  (ENTRY-OPEN-CLO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current condition of the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.  Used to control leave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-    Departed on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-     Leave period closed without an ext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   -      Leave period cancel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TYPES (MIL-LV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kinds of military leave which may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a soldier of the armed for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-   Ordin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t the request of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-   Delay En Ro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while under orders for temporary duty or permanent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-   Emer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when bona fide emergency exists that required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ce at other than his/her/her/her/her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-  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 soldier upon re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-   Sick or Convalesc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to a soldier while under medical care or trea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-   Spec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 soldier for an extension of a tour in accord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PL 89-73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-   Delay En Route/PCS - Accessions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4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  -   Grad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to graduates of service academ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  -    Delay En Route/PCS - Training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5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8840" y="388800"/>
            <a:ext cx="543024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 -  Delay En Route/PCS - Operational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6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 -  Delay En Route/PCS - Rotational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7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-  Delay En Route/PCS - Travel of Organized Uni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9 cited in appropriation of travel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-  Terminal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terminal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-  Leave Awaiting Appellate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 soldier while awaiting completion of Appel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-  Permissive TD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VEMENT REASON CODES (MOVMNT-RSN- 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reason for soldier's reassignment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e permanent duty station to anot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-  Opera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under normal circumstances not involving conditions indic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movement reason codes B through 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-  Hospital, Patient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to a hospital for treatment of disease, injury, wound or 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apaci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-  Home Awaiting Physical Evaluation Board Proceed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 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-  Other Government Agency or International organ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s assigned to duty (PCS) with a Non-Department of Def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ency or International organization other than the Agency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Develop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-  Permissive Permanent Change of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fer of soldiers PCS from one duty station to another 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al expense solely for humanitarian reas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0120" y="388800"/>
            <a:ext cx="507996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 -  Training Scho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for formal training at either a military installation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vilian institu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-  Acc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PCS status due to acc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-  Pipeline Perso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group travel for train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basis or reason for a soldier's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 active 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  -  Separation as Commissioned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 -  Separation as Commissioned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 -  Separation as Commissioned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 -  Separation as Warrant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  -  Separation as Warrant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  -  Separation as Warrant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  -  Separation as Enlisted with Reentry on Active Duty as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  -  Separation as Enlisted with Reentry on Active Duty as Warr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  -  Separation as Enlisted on Expiration of Term of Service wi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try on Active Duty 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70720" y="388800"/>
            <a:ext cx="58402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  -  Separation as Enlisted Prior to Expiration of Term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Reentry on Active Duty 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  -  Completion of Enlistment as Enlisted and Beginning of Activ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 Enlisted Under Extension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  -  Separation as Enlisted by Resignation with Reentry on Activ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  -  Separation of Enlisted by Retirement with Immediate Recall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 Duty 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  -  Retireme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  -  Resignation except for the good of the service or for transfer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other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  -  Resignation for transfer to another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  -  Dismissed by reason of General Court-Martial Sent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4  -  Discharge Upon Application--Substandard Performan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  -  Discharge Upon Application--Unfitness or Unacceptable Conduc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  -  Discharge Upon Application--Marriage, Pregnancy, Minor Childr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  -  Involuntary Discharge--Failure of Promotio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  -  Involuntary Discharge--Result of Board Actio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  -  Involuntary Discharge--Age, Service, Excessive Number, Withdraw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Ecclesiastical Endorsemen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  -  Involuntary Discharge--Pregnancy or Minor Childre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  -  Involuntary Discharge--Entry into Service Academy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2  -  Voluntary Release from Extended Active Duty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  -  Involuntary Release from Extended Active Duty--Eligible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untary Retiremen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 -   Involuntary Release from Extended Active Duty--Due to Manning Requirement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conomy of Operation; or in Lieu of Disability Discharg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5 -   Involuntary Release from EAD--Pending USCMA Actio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3720" y="320760"/>
            <a:ext cx="486972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  -  Release from Active Duty to Revert to Retired Lis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8  -  Discharge--Physical Disability from Misconduct to Neglec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  -  Discharge--Physical Disability Existing Prior to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  -  Vacation of Appointmen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1  -  Dropped from the Rolls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2  -  Death--Not as Punishment for a Crime or Military offens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  -  Death--As Punishment for a Crime or Military Offens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4  -  Death--As Result of Combat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0  -  Retirement--After 20 years service, or as an officer, or in li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other ac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1  -  Retirement--After 30 years service or for disability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  -  Release from Extended Active Duty to Revert to Retired List or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active Status for Retirement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  -  Expiration of Term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  -  Convenience of Government--Involuntary or Interest of Army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  -  Convenience of Government--Voluntary or Interest of Soldi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  -  Hardship or Dependency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  -  Minority; Unsuitability; Disability Prior to Servi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  -  Disability with Severance Pay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  -  Disability from Misconduct, Neglect, or Incurred Du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authorized Absen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  -  Voiding of Enlistment or Induction--Under 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  -  Enlisted Soldier Separated to Enlist in Another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  -  Unfitness; Security; Resignation or Request for Discharge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od of the Servi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  -  Misconduct--Fraudulent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7400" y="208080"/>
            <a:ext cx="534960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  -  Misconduct--Deser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  -  Misconduct--AWOL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  -  Misconduct--Convicted by Civil Court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  -  Court-Martial--Deser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  -  Court-Martial--other than Deser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  -  Death--Not as Punishment for a Crime or Military Offens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  -  Death--As Punishment for a Crime or Military Offens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  -  Death--As a Result of Combat Servi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DETERMINANT CODES (STATS-DETRM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A code used to identify the soldier's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pay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           On st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Soldier physically located at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forming duty at permanent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ion or temporary duty (TD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             Leave                Soldier may be on Terminal (P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llate (R), or Excess (A)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ult of an SBOL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            Permanent        Soldier on orders to move from 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of          permanent duty station to an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ion              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                   Absent              Soldier absent from place of duty without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out             permission or authorization and without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               the intention of desert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              Confined           Soldier imprisoned by civil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author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                 Missing             Soldier officially declared to be missing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ing in action, under the Missing Persons Ac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ed in a foreign country, captur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leaguered, besieged by hos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ce, or detained in a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against his or her wil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200" y="388800"/>
            <a:ext cx="621252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Field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oldier assigned to field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rcises or deployed with uni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                    Deser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oldier administratively declared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erter or convicted of deser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a court-marti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                    Suspended Stat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Soldier's status is suspend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there is doubt whether his/her/her/her/her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r military status is valid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in the process of be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d but has not been put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eparated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                      Mentally                             Soldier has been official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petent                      declared mentally in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                Separated                           Soldier is separated from the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 A data code Z identifies a new social security number for a soldier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 will be computer generated at the time the soldier's SSN changes and is enter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o the pseudo status entry of the soldier's auxiliary DSIS.  The Z is followed b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ew social security number.  The auxiliary DSIS is used to relate the soldier'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ld and new social security numb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ENTRIES (CMPTR-OPEN-STAT-ENTRY-N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A code used to identify the number of open status entr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are on DSIS and to identify a bad condition DSIS.  This code is pa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S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             Data items            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Number open                           Number open status ent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entries                           o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                        Frozen DSIS                             Identifies DSIS  frozen s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ly payment transactions and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AFC unique transactions can b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ed against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                       Garbled (Bad) DSIS                 Identifies DSIS that has dat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opped or garbled.  Only form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 98 transactions can be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ed against a garbled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4480" y="250920"/>
            <a:ext cx="56206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             Data items            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                        Out-of-balance Account          Identifies DSIS where th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ails do not add up to the tota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                    Delete Account                        Identifies DSIS that can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quired against, but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ANCH OF SERVICE (BRANCH-OF-SERVI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-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- Air Fo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- Mar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- Nav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CURRENT ENLISTMENT INDICATOR (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o days l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Days were lost due to a ba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DOE INDICATOR (PRIOR-DOE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oldier's first period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oldier served a prior period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BENEFIT WAIVER (WAIV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 - Active duty pay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       - No benefits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  - Retired pay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  - VA benefits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INDICATOR 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o prior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Y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 COMPONENT (SVC-COM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 These codes and their descriptions are currently under discu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ational Gu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Reg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Tempor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Reser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ational Guard IADT(Initial Active Duty Train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Reserve IADT(Initial Active Duty Train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7160" y="320760"/>
            <a:ext cx="60422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COMPENSATION POSITIONS (SPCL-CMPTN-POS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ertain designated positions for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pay is prescrib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      -           Chairman, Joint Chiefs of Sta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       -           Chief of Staff,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       -           Senior Member, United Nations Military Staff Committ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       -           Permanent Professor, West Po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       -           Sergeant Major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 -           All other soldi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MPANIED STATUS (ACCO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unaccompanied and receiving single BA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ing BAQ at with dependents rate accompanied by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ing single rate BAQ accompanied by authoriz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unaccompanied and receiving single BAQ before 841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 TYPE (BAS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 Rations\Standard R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/TDY/proceed ti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tions-in-kind not avail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tions under emergency condi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 R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EST BAQ DEPENDENT (CLOST-BAO-DE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y the soldier's closest dependent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Q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-            Sp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-            Child in Legal Custody of Someone other than the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-            Child in Legal Custody of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  -            Pa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-           Step-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   -           Soldier Married to Soldier, no 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      -           Adopted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 Righ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     -           Handicapped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-            Illegitimate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     -            Soldier Married to Soldier, Dependent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3320" y="528480"/>
            <a:ext cx="577800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SIS CATEGO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-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-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Colle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- 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- FICA/FITW/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- 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 -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- Member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- Memorand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- Payment/Pay 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- Reenlistment Bonus/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-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- Tour/Service/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# - Entitlements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(Note: With the exception of Missed Meals/Supplemental/Prora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ations-FID = P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AT IDENTIFICATION CODES (FI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Format Identification (FID) two character Alpha, Num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Alpha-Numeric codes that identify administrative, Pay, Entitlement, Deducti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Collection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A -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B - Bonds, Start and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 - Cha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 - Dependent Supplemental Support to an Individual Allotee or Coded Compa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 - Charitable Contribution to Arm Emergency Relief F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 - Home Loan to a Coded Company or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 - Commercial Insurance Premiu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 - Relief and Aid Re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- Government Insurance Premi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 - Soldier Individual Bank Account to Financial Organ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- United States Government Indebtedness, Delinquent States or Local Income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mployment Ta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 - Number of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Z - Allotment Fla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B -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 - Days Paid Accrued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M - Save Pay Leave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 - Standard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S - Hostile Fire/Combat Zone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4960" y="320760"/>
            <a:ext cx="501156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 ADEQUACY (QTR-AD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-         Not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-         Adequate quar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-         Inadequate quar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-         Bar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 ASSIGNMENT (QTR-ASG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-         Living in post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-         Not living in post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STATUS (RENT-ST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-          Ren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-          Homeow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S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TURE ENTRY FORMAT IDs (FI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men's Group Life Insurance (SG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endent Dental 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ed Forces Retirement Home (AFR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Adv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ment Earned Income Cred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D Form W-4 Withholding Exemption Certific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ained Pay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ly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Overseas Ext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oard Certification Special Pay (BC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ental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iv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Hostile Fire or Imminent Danger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Variable Speci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ontinuation Pay/ASP/ISP/MOR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pecial Duty Assign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cientific and Engineering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elective Reenlistment Bonus (S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elective 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asic Allowance for Quarters (BA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Aviator 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asic Allowance for Subsistence (BA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Rent Plus Interi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lothing Replacement Allowance (CR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Interim VH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                  -                   Personal Exp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16080" y="320760"/>
            <a:ext cx="554472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FUTURE CODES (DEDTN-FUT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what action is taken on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deduction at a future specified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Indebtednes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Indebtedness has been repaid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orfeitur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Total amount of forfeitur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ed in the punishment h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deducted or suspend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itted, set aside or mitig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Detained Pay             The total amount of pay requested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be detained has been withhel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the deduction requirement ha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withdraw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in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Total amount of the fine specified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punishment has been dedu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suspended, remitted, set aside,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tig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ollections of            Start collection of fines from      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es                                   soldier’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ollections of            Start collection of forfeitures from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feitures                          soldier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Detained Pay              Start collection of detained pay from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ICA Deductions        Stop FICA deduction because the total    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imum Reached             amount of FICA to be deducted from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 in a calendar year ha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m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FICA Deductions        To restart FICA deductions at the            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ginning of the calendar year af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ped in the previous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date “FC” FICA               Update applicable Wage Fields     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 Fields                         within Format ID “FC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6360" y="320760"/>
            <a:ext cx="618768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date “FJ” FI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Update applicable Wage Fields                   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in Format ID “FJ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ollection                  Start collection of indebtedness from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Indebtedness                 soldier'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Stop SGLI deduction 1st day of    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Start SGLI deduction 1st day of  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USS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Start USSAH deduction 1st day of               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USS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Stop USSAH deduction 1st day of               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FITW Deduction         Start FITW deduction which was   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ped by the soldier's submi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D Form W-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Start SGLI deduction 1st day of   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 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bilized with SGLI deducted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f mobilization under ARP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USSAH                         Start USSAH deduction 1st day of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  Soldier h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eak in service of less than 1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Report a start of SGLI deduction               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ective the 1st day of the next fis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ITLEMENT FUTURE CODES (ENTLMNT-FUT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future action to be taken on a soldier's speci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because the soldier either meets or no longer meets certain requirements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pecified amount of time has pa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1320" y="250920"/>
            <a:ext cx="58276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EFINITION/USE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Entitle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Soldier no longer meets entitlement      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Entitle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Soldier meets entitlement             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ments. (For FORMA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 12, the future means that both the av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(ASD) and officer service d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OSD) are the sam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rease Basic Pay               Soldier completes four months   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in the Army and is entitled to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increment of E1.  (For FORMAT-ID 12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uture means ASD longevit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R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Soldier reaches 3 years of military service       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is entitled to receive Stand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lacement Allowance.  (For FORMAT-I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, the future means OSD longevit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RA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Soldier reaches 6 months of military  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and is entitled to receive Bas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lacement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Pro-Pay                    Soldier formerly authorized Pro-Pay 2      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to A                             begins second year of phased proficienc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termination status.  Pro-Pay 3 beg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year of phased proficiency pa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ination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Pro-Pay                    Soldier formerly authorized Pro-Pay 3  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to C                             begins third year of phased profici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termination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Years Service          Add one to number of years of medical  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cal or Dental                  or dental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 $250 to Permanent        Soldier is serving as a permanent     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essor's Basic Pay          Professor and reaches over 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s creditable service for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HFP, No Tax                  Start hostile fire pay based upon    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                               PCS arrival transaction. 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not entitled to FITW ta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960" y="320760"/>
            <a:ext cx="627624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EFINITION/USE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HFP, with Tax                    Start hostile fire pay based                          P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                                    upon PCS arrival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entitled to FITW ta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ly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Soldier has completed 1 year        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pitalization and rehabili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ter termination of MIA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Entitlement                         Soldier meets entitlement           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ments on a speci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Held Pay                             Start pay held pending establishment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                                  of a class Q allotment by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ly Pay End of FY              Soldier’s fly pay (non-crew)                        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stopped at end of fis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FUTURE CODES (MISC-FU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future action to be taken on a soldier's pay and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, allotments, and/or longevity because of the soldier's actions, passage of time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ck of a confirmation, or an input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 DEFINITION/USE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years of service                     Accessed soldier’s pay date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leted to DSIS                         has been confirm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ease Detained Pay                    The period of detained pay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cribed in the cou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tial orders has lap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Years of                             Soldier has completed another               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Completed                         year in the Army.  Add on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s of service comple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4640" y="320760"/>
            <a:ext cx="58478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DEFINITION/USE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 Pay and                          Suspend pay and allowances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- ETS                          because the soldier's expi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 of service date is reached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extension or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message has not b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from the CBP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Special Compen-             Soldier reaches over 6 years     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tion Position From                     as a registr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” to “P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or Stop Entitle-                      Start or stop soldier's                             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nts and Deductions                  applicable entitleme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Projected Date                          deductions on the proj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return from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Applicable                              Stop soldier's applicable                        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 and                            entitlement and deductions 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 - Excess                      the date soldier enters ex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 All Pay and                     Suspend all pay and allowances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- No                             because confirmation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 Confirmation               accession of a soldier has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 All Pay a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uspend all pay and allowances           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- N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because confirmation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Trans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oldier's separation is receiv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but no separation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HFP and FI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top hostile fire pay aft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mp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lapse of full calendar month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oreign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top foreign duty pay or sea duty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because soldier is on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COLA and USS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top cost of living allowance                  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because soldier is on leave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SAH ded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Diving Duty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Stop diving pay or submarine  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pay because soldier is 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3000" y="320760"/>
            <a:ext cx="610416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DEFINITION/USE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Allotmen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op allotment on the projected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USSAH Dedu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art USSAH deduction on th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ed start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rrive CONUS                      Establish Arrival/CONUS Date     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Depart CONUS                     Establish Depart/CONUS Date                   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SA I, L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op FSA I, soldier is on leave                   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t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Stop at normal ETS                                    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inal Leave St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art through separation                           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APEI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Stop Advanced Payment of                       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Income Cred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SPENSE ENTRY FORMAT(FI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yment of Pay and Allow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Adv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k Designated to Receive Pay and/or Change Payment O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,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MPC Matc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manent Change of Station (PCS) Arriv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asic Allowance for Housing (BA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lothing Replacement Allowance (CR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SUSPENSE CODES (DEDTN-SUSP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data required to continue processing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te Notice o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To request a re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Indebtednes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schedule from the finance unit/PS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560" y="250920"/>
            <a:ext cx="60004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Schedule shou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Repay Schedule has no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ve been received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been received with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SUSPENSE CODES (MISC-SUSP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 and Use:  Identifies a specific output transaction requesting data to comple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's status; identifies an un-reconciled monetary out-of-balance condi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Arrival Messag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Soldier's new permanent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uld be Received o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station is notified that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Has Been in T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soldier's PCS arrival mess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Over 45 day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has not been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l Separ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Operating directorate i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rmation (MN03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notified that no accession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received soldier               separation message has b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for a partic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tary Out-Of-                   Operating directorate is notified               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 Should Be                that a monetary out-of-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nciled or off/                  condition has not been reconci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n Accession                     within the required time or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rmation Not                   place in T2 status status (off-1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                               days, Amn-90 day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 Pay Dates                         Operating directorate is notified                  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Confirmed                        that there is a discrepancy th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ains unreconciled.  Confi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 pay dates within EAD-DATE 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Days Out-of-Balance     Balancing PCS period.                                   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ed by E101                 E102 should have been received                   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or E103             or MISC-SUSPNS changes to 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rmation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Within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7360" y="250920"/>
            <a:ext cx="536652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ed by E101                  Determine why E103 not received.            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llow-up for 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Made or               DSIS placed in T2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103 BMT Confi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Received Within 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CITY-STATE         On processing of E2 transaction,    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098.  FAO input                   TAX-AUTH-CITY-STATE was 098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d                                   Transaction is required from finance unit/PS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establish correct taxing autho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CITY-STATE         60 days after E2 transaction   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098.  DFAS Follo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processed TAX-AUTH-CITY-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 Require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is still 098.  If not changed in 30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transaction will reject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for follow up 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PCS arrival transaction not  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llow Up Required                 received after 30 days.  Reject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PCS-ARR                             DFAS for  follow up 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Days Not in                       MP Follow-up required.               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 Management                       Send XA Management Notice                    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SG                                  for certain conditions with S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 Management                       Send XA Management Notice       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LG                                  for certain conditions with L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 Management                       Send XA Management Notice            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LC                                  for Certain conditions wi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Receipt of CMA                 Advice to FAO when PT input has            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put                                           not been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 to Operating                  E6 should have processed by       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rectorate                                EFF-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9240" y="320760"/>
            <a:ext cx="60660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 ACTION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the "action word" to be printed on the Leave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ings Statement and is stored o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d(s) that will print on the L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0                  -      None (left blan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                 -     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*Beginn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Cor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Canc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Incr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Decr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With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el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Ext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App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Disappro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Exec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Susp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esu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em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Upd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*End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Data codes 03 and 99 are used in printing inclusive dates of an entitlement, leave, etc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action code "03" transaction has the Format ID and the beginning da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action code 119911 has the ending date and other pertinent data.  The combi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two transactions print as one LES Remark i.e., '“LV 700823 (25) to 700823 (25).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 FORMAT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words or codes to be printed on the Leave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ings Statement in Block 62.  These codes are stored in the LES Remarks Are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DSIS.  The maximum length of the printed LES Remark is 31 characters.  Th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combination of LES Remarks action code, effective dates, and the day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year the transaction 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5280" y="388800"/>
            <a:ext cx="516060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C - COLLE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1 - Check Cancellation-Soldier’s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2 - Cash Collection for an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5 - Cash Collection or Check Cancellation or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D - 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B - Servicemen’s Group Life Insurance (SG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C - Dependent Dental 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- Armed Forces Retirement Home (AFR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- Montgomery GI B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 - Monetary Pu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G - Indebtedness GPLD, Report of Surv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H - Rental Fair Val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L - Government Laundry and Dry Cl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 - Overpayment of Pay and Allow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 - Excess Cost on Personal Property Ship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 - Indebtedness, All 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 - Repay Adv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W - Indebtedness-Payments (overpayment of Casual or Partial Payme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Z - Indebtedness Entr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F - FICA/FITW/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 - Taxable Wages (Used when a soldier exceeds maximum FICA W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B - FITW Quotient Fac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C - FICA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D - Federal Income Withholding (FITW), Addition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 - Advance Payment Earned Income Cred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F - Federal Income Tax Withholding (FITW) Deduction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G - FITW Exemptions,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J - FITW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 - Federal Taxable Wages (Established by hostile fire duty star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M - FITW Additional Withholding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P - FITW Wages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Q - TD Form W-4 Withholding Exemption Certific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 - State Income Tax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H - 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 - Pay Held-Soldier’s 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D - Detained Pay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 - Fines Pending Appellate Review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F - Forfeitures Pending Appellate Review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G - Held Pay, Gar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H - Forfeiture 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K - Duty Status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0600" y="249120"/>
            <a:ext cx="59817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2400" y="804960"/>
            <a:ext cx="2968560" cy="9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  ITEM/EXPLAN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ic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eign Language Proficiency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molition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ight Deck Duty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ying Duty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rdship Duty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chute Jumping Duty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ress Duty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marine Duty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Extension Pay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ard Certification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ntal Duty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ing Duty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cal/Dental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inuation Pay for Medical Offic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a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terina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omet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icienc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30360" y="804960"/>
            <a:ext cx="1086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8760" y="458640"/>
            <a:ext cx="34462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cientific &amp; Engineering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ive Reenlistment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ive Enlistment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ic Allowance for Housi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iator Continuation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rated and Supplemental Ra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al Money Allowance for General officer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 of Living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A D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 of Living Allowance (Prorated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Pl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Plus Interi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Plus D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form and Equipment Allowance, Initi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form and Equipment Allowance, Addition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hing Mainten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Separation Allow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im VR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HA D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Housing Allow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ability Sever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mp-Sum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mp-Sum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5160" y="458640"/>
            <a:ext cx="10868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61440" y="458640"/>
            <a:ext cx="34462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Adv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asi-Adv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djus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ve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charge Gratui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d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ity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o family and institu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ity Allotment to Army Assistance Fu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me Loan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Insurance Premium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ief and Aid Repayment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Insurance Premium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 Government Indebtedness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ocial Security Account Numb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Name Chang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 Cash Colle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 Check Cancell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Separ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Reenlis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Days of Leave Soldier Must Take o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e by the End of the Fiscal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 Cancel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35160" y="458640"/>
            <a:ext cx="10868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72160" y="320760"/>
            <a:ext cx="26186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sh Col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ntr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k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ve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Incomple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 Leave Used ---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 Correct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Soldier's 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Detain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Fine Pending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Forfeiture Pending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93760" y="320760"/>
            <a:ext cx="108684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4280" y="528480"/>
            <a:ext cx="369900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Forfeiture Pending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Duty Status Determi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Voluntary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ld 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 Dollar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Gar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 Susp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men's Group Life Insu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 Max Reach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Effective date is not required with This LES Remar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69800" y="528480"/>
            <a:ext cx="108684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0680" y="5376960"/>
            <a:ext cx="516384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DATA DICTION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-TI-DEDT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NE-TIME PAY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J-, F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deducted on pay period and is not continuing month to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-TI-PAY-AU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NE TIME PAY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 WA entries:  PB, PB-, PJ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J-, PL, PL-, PH, PM-, PQ, PQ-, PR, PR-, PX-, PY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 one-time pay authorization is iss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O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TE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te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1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ELEVE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eleve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0600" y="320760"/>
            <a:ext cx="497736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ST-PR-MO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FIRST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 item appears in the following DSIS entry: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 FITW wages earned in the first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T-POSN-INPUT-SOUR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RST POSITION OF INPUT SOU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input source within AFAF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-ENTRY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SA, SECOND ENTR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NKPA entry:  65, 65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econd FSA area is in effect on the DSIS for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-RPAY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ANCE PAY REPAY SECOND ENTR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 entries:  DV, DV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advance pay repay is in effect in the soldier's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D-POSN-INPUT-SOUR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COND POSITION OF INPUT SOU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position of input source within AFAFC.  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ND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SECOND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second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1AUG76-LV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VE PAY LEAVE DAYS AS OF 31 AUG 19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e pay leave days as of 31 Aug 197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RD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THIRD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third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RD-PTY-RCP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RECIPIENT THIRD PAR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ame of an individual other than the owner, co-owner,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neficiary designated to receive a US Savings Bond in first, midd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itial, last name forma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4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FOUR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four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5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FIF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fif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7320" y="320760"/>
            <a:ext cx="48783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6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SIX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six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7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SEVE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seve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8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EIGH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eigh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9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NI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ni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MPANI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-, 57, 57-, 66, 66-, 67, 67-, 68, 6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ponsored status of an individuals dependents when 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more dependents reside with him or in the local area of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station during his/her current or last overseas tou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PLCY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 OR POLIC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, AH-, AL, AL-,AI, AI-, AN, AN-, AS, AS-, AT, AT-, LH, LH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umber assigned to a checking or savings account b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ncial institution.  It will also be used to represent the A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 Number that authorized the AER Loan.  Space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characters are not allowed.  Left justify when few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n 17 charac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CCOUNTING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leave accounting types used based on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unused)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TYPE-CHG-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LEAVE ACCOUNTING TYPE, CHANGE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 member's leave will go from chargeable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chargeable leave, or from earned to advance, or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to exces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TYPE-CHG-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LEAVE ACCOUNTING TYPE, CHANGE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of a second change to a member's leave will go fro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able to non-chargeable leave, or from earned to advanc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from earned to exces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4280" y="320760"/>
            <a:ext cx="55720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ESN-PROCSG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ESSION PROCESS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K-.  The date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 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P-EXPRTN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VIATOR CONTINUATION PAY EXPIRATIO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C, R9, R9-, 3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viator continuation pay expi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P-TY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VIATOR CONTINUATION PA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C, R9, R9-, 3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whether the soldier is an aviator or a navigat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the DSIS entries.  A term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action to be taken upon data.  A two digit code to specify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to take on a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J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JUSTMENT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NM-.  Identifies the typ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djustment made to a soldier's pay after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R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DRESS MAIL, DOMESTIC OR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-, AH, AH-, Lk, Lh-, LF-, LH, LH-, NN, N7.  Address for che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ling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RS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DRESS MAIL, DOMESTIC OR FOREIGN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Identifies whe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ddress is domestic, foreign, APO or FPO for check mailing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ING AND DISBURSING ST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majority of DSIS entries:  The Accounting and Disbursing S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(ADSN) is assigned to identify the (a) Finance and Account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 (FAO), (b) Accounting and Disbursing (A&amp;D) agent office,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c) accounting agent office.  Equates to DSS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ING ADS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S, DS-.  ADSN who has the responsib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aintaining a record of the receipt, disbursement, and collection of fund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ted to it or maintained by it and reporting the status of those fu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AINING ADS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NO, SH, SH-.  ADSN which will be servic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after a PCS mov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ING ADS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LB, LB-, NQ, N4-, N6-, PA-, PB, PB-,PC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, PF-, PJ, PJ-, PK-, PL, PL-, PM, PK-, PQ, PQ-, PR, PR-, PV-, PX, PX-, PY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2000" y="250920"/>
            <a:ext cx="56300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SN (DSSN) which receives soldier's pay authorization and is respons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paying the soldier mid-month and end-of-month, makes part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s and certain other miscellaneous payments and collections,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SSSN (DSSN) which makes casual payments or receives sepa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uthorization and makes separation payments.  Since all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are paid by Central Site this field will indicate if the soldi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paid by direct deposit or check to ban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ING SSSN, END-OF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PH, PU.  The SSSN (DSSN) responsible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ing the soldier at end-of-month under exception payment posting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field will always represent Central S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ING ADSN,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PN, PU.  The SSSN (DSSN) responsible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ing the soldier at mid-month under exception payment posting.  Th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eld will always represent Central S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ING ADS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LC, LC-, NB, N7, N9-.  SSSN (DSSN) assig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esponsibility to input specific entitlement and pay effecting 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Defense Financial Services Center at Indianapolis based on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manent duty location, establishes and/or maintains the soldier's Person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ncial Record, distributes the soldier's Leave and Earnings Stat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First four digits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TNL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INCOME TAX WITHHOLDING ADDITION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D, FD-.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amount authorized by an individual to be deducted for Feder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Tax regardless of regular withholding deductions or the susp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re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ANCE PAY CATEGO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V, DV-.  Types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s authorized soldier in advance of accru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GENT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GENT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C, LC-.  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resenting the ag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AMOUNT,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, AD, AD-, AF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-, AI, Al-, AM, AM-, AT, AT-.  The designa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tary portion of an individuals pay which is authorized to be paid to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charged against military pay entitlement at regular mid-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perio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1560" y="250920"/>
            <a:ext cx="58521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,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hat will be charged against a soldier's military pay entitlemen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next month, end of month pay period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NEXT MONTH,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hat will be charged against a soldier's military pay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next month, mid-month pay period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E-I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TEE NAME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whether an allottee's name is printed on a check as a credit li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in care of l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E-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TE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ame of an individual designated as recipient of an allotment. (Fir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, middle initial, last name and suffix, if necessary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MT-STOP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STOP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P-.  Identifies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will be stopped on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MT-VA-RSN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VETERANS ADMINIST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SON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N, AN-.  Identifie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Veterans Administration the reason a Class N Allotment is being started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WBL-TVL-TI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ALLOWABLE TRAVEL TI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d as allowable travel time determined by mode of transportation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4-, N6-, PA-, PC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, PF-, PK-, PV-, PY-.  Amount of a payment made to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T-1-TI-PAY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NE-TIM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Q, NT-, PB, PB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J, PJ-, PL, PL-, PM, PM-, PQ, PQ-, PR, PR-, PX, PX-, PY-. 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e-time payment made or to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ANL-PAY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F ANNU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NC, RB, RB-, R6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6-, R7, R7-, RB, RB-, R9, R9-.  A designated amount paid once each year on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2880" y="388800"/>
            <a:ext cx="47750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 - Soldier Must Be Paid in Even Dollars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S - Soldier’s Request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V - Duty Status Chang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X - Soldier Must be Paid in Even Dollar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Y - Pay Held Rel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Z - Out-Of-Balance MM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L -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 - Check Recipient-Individual (such as Truste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B - ADSN Pay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 - ADSN Servi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 - Duty Country/Non-C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F - Future Mailing Address (Soldi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G - PACIDIN (PAC Identification Num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H - Bank Designated to Receive Pay and/or Change Payment O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K - Payment Option Code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M - MEMBER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 - Social Security Number (SS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C - Name,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D - Grade, Military Perso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 - S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 - Taxing Authority,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H - Resident of Country or Non-CONUS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J - AFMPC Matc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K - Julian D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N - MEMORAND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 - Privacy 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B - Leave Susp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C - ACP Me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M - After Separation Cross Re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N - Separation/Reenlistment (Data from  rejected transaction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P - Deleted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Q - Separation Payment to be Appli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 - Correct Standard Leave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T - Projected Separation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W - Bad Status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0 - Projected PCS Depar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4 - Death Gratu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6 - Temporary Lodging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7 - Separation Data 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9 - 97-98-99 Input (DFAS at Indianapolis unique input memo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P - PAYMENT/PAY 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 - Advanc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440" y="250920"/>
            <a:ext cx="52646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FRGV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AMOUNT, FORG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G, DG-, DQ, DQ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, DR-, DS, DS-.  The monetary amount of an indebtedness that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ived, remitted, or canceled by proper author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INDEBT-TOTAL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INDEBTEDNESS 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Tot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ll debts which are collect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INSTLMT-P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F INSTALLMENT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, R7, R7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9, R9-.  The amount of each installment paid or to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SPEC-DEDTN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XT MONTH MID-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a specific deduction that is made next mid-month unl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SPEC-ENTLMNT-Y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1, 41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ulative year-to-date amount of a specific enti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TOT-ENTLM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entitlements, military pay,  at the end of the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EIC-BENEFI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EIC BENEFI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FE, FE-.  Indic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's proportion of eligibility for Advanced Payments of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Credit (APEIC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-CO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RIATION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RIA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or used to speed up computer proces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EA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NB, SB, S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geographical area where soldier take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R-DEPRT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RIVAL DEPARTURE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Tel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ther the date in the PCS arrival input Is an arrival or a departu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3120" y="250920"/>
            <a:ext cx="53967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RI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RRIVED AT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Date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ed to his/her/her/her/her current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V-C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RRIVED CONTINENTAL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, SG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 soldier arrives in CONUS from a foreign lo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V-HF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RRIVED HOSTILE FIRE PAY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, SG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 soldier arrived in a hostile fire pay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SERI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UTH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UTHORIZ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U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control leave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ANCE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U. 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s of pay and allowances due the soldier at the end of the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amount brought forward from a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BALANCE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leave days in a soldier's leave account at the end of the curr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r at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-DUE-CM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INDEBTEDNESS DUE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 DF, DF-, DG, DG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 DQ-, DR, DR-, DS, DS-, DV, DV-, DW, DW-.  The amount of indebtednes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ed by the soldier at the end of the current month or at tim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NK-INS-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NK INSTITUTION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H, LH-.  Th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bank holding the account to which a soldier's sure pay is being 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longer u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BSISTENCE ALLOWANCE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9-, 40, 40-.  The kind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ration allowances authorized an enlisted soldier in the Army w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subsisted in ki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E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BENEFICIARY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AB, AB-.  The nam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6800" y="250920"/>
            <a:ext cx="604476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EN 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BENEFICIARY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cial security number of the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F-ENTRY-C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BROUGHT FORWARD ENTRY IN COMB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leave days brought forward upon entry in the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F-PRIOR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BROUGHT FORWARD PRIOR FISCAL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leave days brought forward from prior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US-RCU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US RECOUPE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Bon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upment has been entered on the DSIS as an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P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IC PAY AMOUNT, ACCUMUL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Y, RZ.  The amou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onthly bas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ANCH-OF-SERVI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ANCH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Q, TQ-.  Indic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, Navy, Air Force, or the Mari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KFSTS-MI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EAKFASTS MI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39-.  The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breakfasts not eaten in a government mess for which a soldier is entit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as prorated or supplemental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UDGET-PRO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UDGET PROJ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R, DR-, DS, D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irst four positions of AMSC Army Management Structure Code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 for fund control and account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YPASS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YPASS-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mal processing routines to omi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L-Y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LENDAR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DG, DG-, DQ, DQ-, DS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-, DW, DW-, FA, FA-, FJ-, FQ, FQ-.  Twelve month period of time star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January and ending 31 Dece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NCL-DC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CANCELLATION DEC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M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l action taken by the service concerned about a requested cancel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debt to the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4280" y="320760"/>
            <a:ext cx="59590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ATH 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L, SL-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ause of death of a soldier for use in computing unpaid pay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and tax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BPO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SOLIDATED BASE PERSONNEL OFFIC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-.  A sequent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phanumeric number assigned to a Consolidated Base Personnel Offic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 equates to Army's Personnel Service Companies (PSC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C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.  Tot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has Pledged to cha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F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F, AF-.  To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pledged to the Army Emergency Relief Fu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L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L, AL-.  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loaned the soldier to be repaid by Class L allo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T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T, AT-.  The 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the soldier owes to the US Government by delinquent Federal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es, defaulted notes by FHS or VA, amount soldier owes for AER loans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overpayment of pay and allowance by an agency other than the Army to b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id by Class T allotment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CTN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LLECTIONS,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l-, C2-, C5-, N6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amount of collection soldier mak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CTN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COL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l-, C2-, C5-, N6-. 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collection as evidenced by receipt of cash or che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EAR-ACCT-I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EARING ACCOUNT IDENTIFI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Q. Identifies activity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ion program or project of military pay and allowances for Arm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T-DE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EST BAQ DEPEND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closest dependent for BA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MA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THING MAINTENANCE ALLOWANCE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63-.  The type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hing allowances authorized enlisted soldiers for the maintenance and replace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ll items of personal cloth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2080" y="250920"/>
            <a:ext cx="533556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MPTR-ENTRY-UR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OPEN STATUS ENTRIES,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X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 status entries concurrently in effect on a soldier's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NTRL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ROCESSING CONTROL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the DSIS entries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n an DSIS entry is open, closed, suspended or has previousl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corrected or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TY COUN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E, LE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eign country where the soldier's duty station is lo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RE PAY COMPAN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, AD, AD-, A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-, AH, AH-, AI, AI-, AL, AL-, AT, AT-, DS, DS-, LH, LH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a financial institution designated to receive a soldier's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 or designated as an allottee to receive allotment checks.  Als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an accounting classification for collection of miscellaneo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bts or company/organization designated to receive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-OW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CO-OWNER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co-ow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US Savings Bond in first name, middle initial, last name sequ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-OWN-BEN-GENR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CO-OWNER BENEFICIARY GEN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Generic tit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bond co-owner or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-OWN 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CO-OWNER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soc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urity number of the co-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FMPC MATCH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MJ, TN, TN-.  This flag is used to mak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re all accessions processing is comple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FLASH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AZ.  Prohibits allotment processing whe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has been updated with separation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 COMPON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M7, TP, TP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rimary subdivision of the separate military services of the arm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5000" y="250920"/>
            <a:ext cx="55994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TR-PAY-CO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AYMENT COND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PB-, PH, PJ-, PL-, P14-, PN, PQ-, PR-, PU, PX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mputer-generated code appearing in DSIS payment entries wher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uthorization precedes actual payment.  It tells whether actu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s the amount authorized, and whether 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AYMENT CONDITION END OF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U.  A computer generated code appearing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payment entries where a pay authorization precedes actual pay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 tells whether actual payment was the amount authorized and wheth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AYMENT CONDITION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U.  A computer generated code appearing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payment entries where a pay authorization precedes actual pay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 tells whether actual payment was the amount authorized and wheth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V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MPS CONVERSIO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K, NK-.  The dat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s record is conve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RED-LIN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REDIT LIN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erson whose account should be credited with proceeds of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for whose dependents a Class D Allotment is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REW-STAT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LIGHT CREW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2, 12-.  Designation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person's capacity when participating in aerial fligh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TGY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V, SV-.  The basis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a soldier's separation from active 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TGY-WAN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TEGORY OF DATA W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ndicates loc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DSIS of date to be changed, compared,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CUMULATIVE SPECIFIC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D, HE, HF, HG, HH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S, HV, HX.  The cumulative amount of pay held for a specific reason, show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a voucher applicable to JUMPS/J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AMT-CONTN-PAY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 AMOUNT OF CONTINU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 item appears in the following DSIS entries:  RA, RA-, RI, RI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umulative amount of special continuity pay that has been collect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tisfy an overpayment because the soldier did not serve the total period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sion for which the bonus wa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8720" y="320760"/>
            <a:ext cx="60670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AMT-RRB-RCUP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 AMOUNT OF REG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 BONUS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4, R4-.  The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special continuity pay that has been collected to satisfy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yment because the soldier did not serve the total period of extens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which the bonus wa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TO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ALLOTMENT CUMULATIVE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allotment deductions made toward the purchase of a US 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SAVE PAY LEAVE DAYS BALA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  Current s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leave days bal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-CO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C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de representing the type of currency for rent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Z-BAL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OSTILE FIRE PAY/COMBAT ZONE LEAVE BAL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Indicates that hos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re pay/combat zone leave balance is present in the MMP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Z-C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COMBAT ZONE CONTRO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The number of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brought forward upon entry in the combat zone plus leave days earned while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ombat zone to control leave used for combat zone tax 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-CERT-INCM-TAX-AD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CERTIFICATE OF INCOME TAX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JU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J-.  The date of a certificat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tax adjustment, if iss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-PROC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 OF YEAR LAST PROCE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G, DG-, DR, DR-, 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-, N9-, P5.  The day of the year that a transaction 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ILY-RAT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ILY RATE OF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9-, 40-, 46, 46-, 47, 4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mount based on a specific entitlement for a d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AWACS-EXP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WACS EXPERI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N, TN-.  Date a soldier fir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s AWACS experi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LAST REGULAR REENLISTMENT BONU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R5, R5-.  Date the last regul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 wa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5880" y="69840"/>
            <a:ext cx="590436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RECV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RECE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G, HG-, NB, NN, NQ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7.  The date a transaction or document is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VOU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VOUC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Q, N4-, N6-, PA-, PB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-, PD-, PF-, PJ-, PK-, PL-1 M-01 PQ-i, PR-, PV-, PX-, PY-.  The dat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ucher is entered into FAO's accou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ACC-LV-SETTLE-SAVED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OF ACCRUED LEAVE SAV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The days of accru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ave pay in This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ALWBL-TVL-TI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ALLOWABLE TRAVEL TIME,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O-. 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ed for allowable travel time determined by mode of transportation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CNF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CONFINED,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K, SK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a soldier is confined to a military pris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COUNT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COU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The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leave days processed to a soldier's leave account for current leave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LOS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CURRENT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B, TB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soldier has lost (bad time, AWOL, confinement, etc.) during current abs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  If an administrative change is made, This field will be zero-fil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OPD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OVERPAID T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.  The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received payment for temporary lodging allowance to which he was no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PAID T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6-.  The number of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ed payment for temporary lodg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TD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TEMPORA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The number of days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orary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DLD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LAST DUTY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SH, SH-.  The date on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vidual physically departed his/her/her/her/her last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AB-, DB-, DC-, DD-, DF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G-, DH-, DR-, DS-, DV-, DQ-, DW-.  Monthly amount of a specific deduc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rded in the his/her/her/her portion of the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320" y="320760"/>
            <a:ext cx="556740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C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DB, DB-, DC, DC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, DD-, DF, DF-, DG, DG-, DH, DH-, DO, DQ-, DR, DR-, DS, DS-, DV, DV-, DW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W-, FB-, FC, FC-, FJ, FJ-, FS, FS-.  Amount of a specific deduction made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be made in the curren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FICA DEDUCTION CURRENT QUAR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C, FC-.  Total amou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FICA deduction withheld from a soldier's pay for the current quarter.  Th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is no longer used and will show 0.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ELE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DEDUCTION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F, FF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lection of Federal Income Tax Withholding factor to be used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ing and reporting FIT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B, DB-, DC, DC-, DF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-, DG, DG-, DH, DH-, DQ, DQ-, DR, DR-, DS, DS-, DV, DV-, DW, DW-, FC, FC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J, FJ-, FS, FS-.  Amount of a specific deduction made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B, DB-, DC, DC-, DD, DD-, DF, DF-, DG, DG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H, DH-, DQ, DQ-, DR, DR-, DS, DS-, DV, DV-, DW, DW-, FB-, FC, FC-, FJ, FJ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, FS-.  Amount of a specific deduction that will be made next month unl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4.  Total of all deductions except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will be made next month unless stopped or chang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XT MONTH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4.  Total of all deductions except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will be made next mid-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RS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C, DC-.  Identifie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the ded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Y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DEDUCTION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C, FC-, FJ, FJ-, FS, F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amount of deduction withheld from the soldier's pay for the current year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The yea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d day of a soldier's first day of chargeable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0240" y="388800"/>
            <a:ext cx="55126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-C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CONTINENTAL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, SG-.  The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which the individual arrived at, departed or embarked from the continen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mits of the United States for duty or on leave in a foreign or overseas lo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-FD/HFD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DESIGNATED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The dat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departed a Foreign Duty/HFP designated area on military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-PD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PERMANENT DUTY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The dat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departs his/her/her/her/her permanent duty station on military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RT-HF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HOSTILE FIRE PAY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The dat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departed from a hostile fire pay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NRS-MIS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NNERS MI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9-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on meals not eaten in a government mess for which a soldier is entitl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as prorated or supplemental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A-STOP-CHG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IC ALLOWANCE FOR HOUSING-DISAPPROV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 OR CHANGE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Basic Allowance for Housing was disapproved, stopped or chang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CH-GRA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CHARGE AND GRATUITY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.  The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donation given to an enlisted soldier under conditions specifi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each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PS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, DIS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Y-.  Identifie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osition of pay held from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P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DIS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Identif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a Bond owner wants his/her US Savings Bond 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VER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VER 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1, 21-.  The div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assification in which a soldier of the Army may be qualified and/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for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O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7, R7-, TG, TG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n individual entered on his/her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30560" y="320760"/>
            <a:ext cx="45874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B - Arrears of Pay (Decease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 - Casu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 - Class x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F - Release of 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 - Regular End-of-Month Pay Prior Mont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J - Continuation Pay, ASP, ISP, MOR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K - Parti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 - Selective Reenlistment Bonus (SRB)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M -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N - Regular Mid-Month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Q - Separ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 - Aviator Continuation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 - Current Month Regular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V - Comfort Ite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X - One-Time Pay Authoriz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Y - Payment Out-of-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1 - Pay Authorization Suppressed-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2 - Pay Authorization Suppressed-End-of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3 - Pay Computation Factors,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4 - Pay Computation Factors,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5 - Pay Authorization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7 - Amount Total Entitlements to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8 - Refunds--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9 - Refunds--Other Than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R - REENLISTMENT BONUS/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 - ACP Recoup 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B - Medical Office Retention Bonus (MO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C - Critical Specialty (Generated by 250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D - Incentive Special Pay - CR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 - Special Pay - Nurse Acc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Y - Basic Pay Accumulators (High Amou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Z - Basic Pay Accumulators (Low Amou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1 - Continuation Pay, Cumulative Amount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2 - Continuation Pay (Medical Offic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3 - Regular Reenlistment Bonus, Entitlement Maximum 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4 - Reenlistment Bonus Cumulative Amount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5 - Regular Reenlistment Bonus/Last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6 - Engineering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7 - Selective Reenlistment Bonus (S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8 - Selective Enlistment Bonus (EE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9 - Aviator Continuation Pay (AC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S -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 - On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 -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 - Permanent Change of Station (PCS) Arriv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8480" y="320760"/>
            <a:ext cx="538020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U, TU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 soldier was separated from his/her service component in YYMMD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or the projected date on which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A soldier is to be separated from his/her current enlistment as involuntari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voluntarily extended or curtailed for the convenience of the govern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A soldier or officer is to be transferred to another US Army compon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complete the military service obligatio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A soldier or officer who came on extended Active Duty voluntarily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oluntarily completes his/her EAD period and is to be returned to contr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Reserve or ARNG to complete service contra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.  An officer is scheduled for mandatory retirement program or a volun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on is appro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.  An officer's commission will termin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.  An individuals date may be adjusted fo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extension or curtailment to current period of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 lost (This applies to regular Army soldiers onl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rual of service commi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T-OF-PAY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L, BL-.  Dat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 or cash pay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TY-NON-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TY NON-CONUS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E, LE-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continental US state where a soldier's duty station is lo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3-E4-E5-E6 TRA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SEUDO DATA USE IDENTIFIER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N.  Used as a filler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itions i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DED ACTIVE DUT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J, TJ-.  The date 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 soldier entered current continuous extended active duty or curr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ment or first extension of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WAGES TAXABLE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P.  Taxable wa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curren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5280" y="528480"/>
            <a:ext cx="53830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ALL0TMENT EFFE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C, AC-, A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-, AF-, AH, AH-, AI, AI-, AL, AL-, AN, AN-, AT, AT-.  The year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 allotment is effecti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V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MD, NC, NM-, N9-, RB, RB-, R6, R6-, R9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9-, TC, TC-, TK, TK-, TV-, 38-, 63-.  The date on which an event, other th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personnel assignment, took place or is expected to take place, or th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is or was entitled to a specific pay and allowance, or the dat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will change or was chang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VE DATE CURRENT GR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MD.  Date on which soldier was entitl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of his/her current gr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-DATE-LAST-TRA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VE DATE LAST TRANSAC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NG SAVE, PAY-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K , BK 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ective date of the last transaction affecting save pay leave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-DATE-OBL-MOR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MORB OBLIG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.  The yea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, and day a soldier's MORB obligation sta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CM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IAA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 MID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mid-month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IAA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Nex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mid-month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IAA-YR-TO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D-OF-MON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OF END-OF-MONTH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H, PU.  The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in which a pay amount was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5800" y="182520"/>
            <a:ext cx="551124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-W-OFF-STA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ED WITH OFFICER STATUS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F, TF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 enlisted holds an Army Reserve or Warrant Officer commi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MENT-VOIDNC-WAIV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MENT VOIDANCE, WA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T-.  The action tak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the discretion of the military department concerned after identific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soldier's voidable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Entitlement and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entries.  The total amount of a specific entitlement of military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ALL0T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TO ALL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7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available to allot for a curren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ALO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TO ALLO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7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available to allot for nex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M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Entitlement and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entries.  The mid-month amount of a specific entitlement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Entitlement and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entries.  The next month amount of a specific entitlement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 NEX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0, 40-, 41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month, mid-month amount of a specific entitlement of military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S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at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S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next 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S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next month mid-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000" y="388800"/>
            <a:ext cx="54730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CLSD-D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 CLOSED 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all closed DSIS entries.  This consists of a calend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, update number, processing month, and a flag to indicate if the action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to or after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OPEN-CLO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ENTRY, OPEN OR CLO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Identif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condition of the leave transaction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OPEN-D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 OPEN 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all DSIS entries.  This consists of a calendar dat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date number, processing month, and a flag to indicate if the action is pri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after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-CZ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COMBAT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Leave earn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a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-HFP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HOSTILE FIRE PAY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Leave earn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excess of 60 days while in a HFP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-HFP-BF-PR-ENL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HOSTILE FIR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OUGHT FORWARD PRIOR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Leave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le in a HFP area which was brought forward from a prior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COMBAT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earned in a combat zone during the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INC-C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CURRENT MONTH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rrent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INC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NEXT MONTH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Next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ed earned incom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INC-YT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YEAR TO DATE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earned incom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SB-BONUS-TYP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MENT SERVICE BONUS -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R6, R6-.  Identifi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bonus typ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5440" y="388800"/>
            <a:ext cx="538632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PIRATION TERM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H, TH-.  The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which a soldier is scheduled to complete his/her current term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Regular, Reserve or National Guard components of the Army.  Th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will not be adjusted for extension actually entered into, wheth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sion is voluntary or involuntary by la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PRTN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ARD CERTIFICATION STOP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9, 19-.  Termin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ard Certification special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S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U, TU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extension 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REFUND-WAGE-BA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REFUND-WAGE-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9-.  The wage 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ICA refu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CLC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ulative amount collected from a soldier in a calendar year on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 which had FICA deduc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CRNT-Q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CURRENT QUAR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C, FC-.  W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for the current quarter subject to FICA.  This data item is no lon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 and will show 0.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OPA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FIC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 to be collec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OPAID-CUR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 OVERPA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balance of overpaid FICA wag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-REFUND-WAGE-BA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REFUND WAGE 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9-.  The wa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e for FITW refu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-WAGES-EARN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  W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nex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-WAGES-OPAID-CUR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balance of taxable wages over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1520" y="112680"/>
            <a:ext cx="63082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-LANG-CO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LANGUAGE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02, 02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code represents the language that a soldier has profici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-LANG-C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LANGUAGE DIFFICULTY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02, 02-.  Th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difficulty level of the language that a soldier has profici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-LANG-SKILL-LV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LANGUAGE SKILL LEVE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02, 02-.  This indica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roficiency a soldier has in a foreign langu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AT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AT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, NK, N14-, NQ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T-, NW, NO, N7, N9-, PX, PX-, PY-.  Identifies DJMS transactions .  Numeric (01-99) equa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Military Pay Code (MPC) entitle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ER-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ER NAME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C, MC-.  The name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held but because of an official name change is no longer val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SA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AMILY SEPARATION ALLOWANCE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65, 65-.  The kind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to which a soldier of the Army may be entitled when sepa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 his/her/her/her/her famil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C-CAT-C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CTIONAL CATEGOR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P, TP-.  A one charac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phanumeric code representing the functional categ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D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D-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-.  One of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onents of the accounting classifi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SCAL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R, DR-, DS, DS-, N4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6-, RB, RB-, R7, R7-, R9, R9-, 33-.  Twelve month period selected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unting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R-OW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 GEN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Gen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tle of a bond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LD-FL-C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UNTRY FOR GOLD FLOW REPOR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D, AD-, AH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-, LHO, LH-, Country other than US wherein a disbursement which enter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balance of payments is mad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7120" y="458640"/>
            <a:ext cx="67503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T-AGENC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AGENCY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1-, C2-, C5-, N6-, PA-, PB-, PD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F-, PK-, PL-, PM-, PQ-, PR-, PV-, PY-, PX-. The major departments and agenc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Federal Government of the United States of Amer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GRA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D.  The grade in which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currently serving.  This includes a term appointment of limited duration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held for a period coinciding with the term of an assignment to a position authoriz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gr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-DSABLTY-SEVRN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FOR DISABILITY SEVE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1-.  Grade used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ation  of disability severanc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-LAST-AGRE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LAST SPECIAL CONTINUATION PAY AGRE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C, RC-, R2, R2-.  Grade of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the time he agreed to continue as a medical officer for a specified number of yea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OUP-WAN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JOR AREA GROUP OF DATA W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location in DSIS of major area of data to be changed, compared,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Indicates whether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ion of the soldier’s pay is being 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P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amount of pay held from a soldier at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amount of pay held from the soldier next 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 NEXT MONTH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pay held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 next month, mid-month,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FP-FDP-Q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OSTILE FIRE PAY AND FOREIGN DUTY PAY QUALIF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, 23, 23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reasons a soldier is qualified to receive hostile fir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IGH-ALTI-LOW-OPE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IGH ALTITUDE LOW OPENING PA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5, 15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or to show entitlement to HAL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87200" y="181080"/>
            <a:ext cx="2523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760" y="320760"/>
            <a:ext cx="646380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-CARE-O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 CARE OF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, AH, AH-.  The name of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residing at an address who will receive a bond, check, or correspondence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other individu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-PAY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TIVE PA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6, 16-.  Indicator to show  typ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entiv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TV-Q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TIVE PAY QUALIF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2, 12-.  Incentive pay qualifier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LUSV-M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LUSIVE MONT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8-, P9-.  Inclusive number of month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ADDITIONAL WITHHOLDING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FM.  Indicates if an additional amount is withheld from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 for Federal Income Tax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CURRENT ENLISTMENT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TA.  Indicates a soldier has lost days (bad time, AWOL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, etc.) during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CS DAYS ACCOUNTED FOR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SG-.  Indicator to show PCS days were accounted f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TX, TX-.  Indicates if the soldier has prior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GULAR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R3, R3-.  Indicates the maximum regular reenlistment bonu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 soldier is entitled has been paid or the soldier has 20 years active federal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and is not entitled to any more regular reenlistment bonu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COMPENSATION POSITIONS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TW.  Soldier serves in one or more special compens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i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2-, DS, DS-, P9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of indebtedness to the United States which requires colle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EDNESS ENTRY COD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DZ.  Indicates presence on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ny combination of open DQ, DV,or DW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33000" y="320760"/>
            <a:ext cx="6239520" cy="87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JD-WND-CMB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, INJURED OR WOUND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RING COMBAT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3, 23-. The year and month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 soldier was injured or wounded during combat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LMT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SB INSTALLMENT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6, R6-.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allments that have been paid or will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MT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ALLMENTS,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, R9, R9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allments that have been paid or will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TR-L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OINT TRAVEL REGULATION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, 46, 46-, 47, 47-, 49-,  55, 55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, 56-, 57, 57-, 79-.  Identifies areas prescribed in the Joint Travel Regulation for which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will receive a specified rate of “Cost of Living Allowance” and/or “Housing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im Housing Allowance” when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MPS-IAS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MPS IMMEDIATE ACCESS STORAGE ARE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 the various areas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ediate Access Storage (IAS) where JUMPS entries are stored for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 DED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LAST ALLOTMENT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A entries:  AT, AT-.  Total amount of the l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 made for a class T allo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-D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SEPARATION, LAST ACTIVE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FFICER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D, TD-.  A soldier’s lst dat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from active duty as an offic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-GR-AUTHORIZ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LAST BONUS AUTHORIZ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Grade a soldier hel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n his/her last bonus was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 MMPA-CH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 OF YEAR LAST MMPA CHANG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K, MK-.  The day of the year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DSIS was last upd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L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Days in excess of th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may be carried forward to a new fiscal  year or days in excess of that for which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may be paid for the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-DAYS-C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REPORTED CURRENT FISCAL YE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number of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d to unauthorized absence, confinement, or other lost time during current fis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15720" y="388800"/>
            <a:ext cx="68234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W-MONTH-AMOU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IC PAY AMOUNT, LOWES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RY.  The lowest amoun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ly base pay for retirement pay computation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UMP-SU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 NUMBER LEAVE DAYS PAID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L, BL-, 74-.  The tot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leave days for which a soldier has been paid during his/her/her/her/her/her military career.  Note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Army Reserve, a soldier is entitled to be paid for half-days of accrued leave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 Duty resulting in partial months of accrual.  By regulation a soldier may b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a maximum of 60 day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V-DAYS-PD/USED-LAST-TRA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VE PAY LEAVE DAYS PAID/US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  Save pay lea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paid or used on the last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J-FORCE-PRO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JOR FORCE PROGR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N-FILE-RE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NUAL FILE RE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M-.  Identifies whic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rectorate manually adjusted the soldier’s file after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X-CF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MAXIMUM CARRY FORWARD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Used to contro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maximum number of days a soldier is allowed to carry forward into the ne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cal year and identifies leave accrued in a hostile fire pay area or combat zo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ax 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D-DEN-OFF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DICAL OFFICER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9, 19-, 25-.  Identifies i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cal officer should receive medical incentiv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MO-E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MO DESCRIPTION OF ACTION TAK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M-, NP-, NR-,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literal description of action taken or a note describing data relating to soldier’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D-MONTH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OF MID-MONTH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N, PU.  Month of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-APPR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80680" y="250920"/>
            <a:ext cx="483156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 - PCS Depar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J - Absent Without Leave (AWO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K - Confi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L - Dec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M. - Mi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N - Field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 - Dese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 - Suspense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 - Mentally In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 - Sepa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X - Number of Open Status Ent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T - TOUR/SERVICE/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- Lost Days Current Enlistment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B - Lost Days Current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 - Years of Service Comple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D - Date of Separation, Last Active Duty Officer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 - Date of Separation, Previous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F - Dual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G - Entered Active Duty Date (EAD)-Offic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Enlistment (DOE)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 - Expiration Term of Service (E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J - EAD/Prior-DO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K - Pay Date (BEP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L - Over Four Years Active Enlisted/Warrant Officer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M - Prior Service Benefit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N - Aviation and Officer Service Dates and AWACS Experience D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-Days Allowable Travel Time-Reser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P - Service Compon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Q - Branch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 - Special Compensation 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S - Term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T - Total Active Federal Military Service Date (TAFMS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 - Date of Separation (D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V - SDN/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- Special Compensation Posi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X - Prior Service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 - Prior EAD and 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 ## -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- Basic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 - Foreign Language Proficienc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9 - SAV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 - Demolition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 - Flight Deck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- Fly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 - Hardship Dut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94280" y="208080"/>
            <a:ext cx="58604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MPA-ENTRY-ID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STER MILITARY PAY ACCOUNT ENTRY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 AF JUMP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 or DSIS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NTHLY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MONTH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-, HG-, HK-,HR-, HZ-.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ly amount of pay requested to be held from a soldier’s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NTLY-R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LY RATE,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01-, 02, 02-, 10-, 11-, 12-, 14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-, 16-, 17-, 18-, 19-, 20-, 21-, 22-, 23-, 24-, 27-, 28-, 29-, 30-, 35-, 40-, 41-, 55-, 56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-, 65-, 66-, 67-, 68-, 78.  An amount based on a specific entitlement for a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1-, P2-.  One of the twel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s into which a year is divided as defined by the Gregorian calend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-DA-CREA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, DAY CRE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Month and da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was cre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RY-ADJ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ETARY ADJUSTMENT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 the charac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n amount as positive or negati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FORF-DET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FORFEITURE OR DETAI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ecutive months a soldier’s pay is forfeited or detain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PUR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TO PURCHASE ALLOTMENT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 the following DSIS entries:  AB, AB-.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s to purchase US Savings Bo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SVC-DIS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SERVICE, DISABILITY SEVERANC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1-. Total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onths creditable service for computing disability severanc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SVC-SEP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SERVICE-READJUST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6-. Total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onths creditable service for computing readjustment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SVC-SEV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SERVICE, SEVERANC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77-.  Total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s creditable service for computing disability severanc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S-PAY 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DICAL SERVICE PA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0, 20-, 24, 24-.  A compu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which reflects all active commissioned service, including internship IA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graph 10506 DODFMR, used as the basis for medical/special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6920" y="388800"/>
            <a:ext cx="63280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UL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RIABLE REENLISTMENT BONUS MULTIPL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6, R6-.  The multiplier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a military occupational specialty, designed by each service, for computation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reenlistment b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AME,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C.  The name by which a person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nown or 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BR-LV-DAYS-P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LEAVE DAY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MMPA entries:  BL, BL-, NT-.  Number of leave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ed payment for at the time of separation/reenlistment/ext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 DAYS ENTLMT AC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AYS OF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VIATOR 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9, R9-.  Three-digit numeric fiel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aining the number of days soldier is entitled to receive items of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E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ICE OF EXCEP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Indicates that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l Accounting Office issued a notice of exception on a soldier’s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-ACRD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NOT ACCRUED FISCAL YE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Cumulative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credited to soldier’s account during a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ICE-FMT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ICE FORMAT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Separation settlement noti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S,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AV.  The total number of allotmen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ly deducted from a soldier’s pay not to exceed fifteen.  Used to identify and contr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umber of allotments deduc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FOR BA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The number of pers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ly dependent upon the soldier for BAH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-ACRD-LV-BA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FOR ACCRU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BA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4-.  The number of pers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ly dependent upon the soldier for accrued leave.  BAH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--COL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FOR CO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6, 46-, 47, 47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s currently dependent upon the soldier for COLA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000" y="528480"/>
            <a:ext cx="602208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PAID T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, 79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endents for which soldier is paid temporary lodging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 OF EXTENS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EXTEN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TU.  The inclusive, tot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voluntary extensions reflected on a soldier’s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XMPT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INCOME TAX WITHHOLDING EXEM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G, FG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mptions and allowances (if any) claimed by an individual for Federal Income Ta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roll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LD-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LD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A, MA-.  Number assigned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vidual by the Social Security Administration immediately prior to the issu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new number or correction of SS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-AGENCY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ERATING AGENC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ENT O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LK.  Identifies soldier’s pre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either central or check payment and whether the soldier wants to be paid onc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r twice a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T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MEN’S GROUP LIFE INSURANC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N, TN-.  The date an individu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s first awarded an aeronautical rating regardless of its typ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FFICER SERVIC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N, TN-.  Total officer time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and warra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VER-4-ACT-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VER FOUR YEARS ACTIVE ENLISTED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L, TL-, N7.  Officers in certa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grades who have over four years Active service as an enlisted soldier or Warra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W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owner of a 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Bond in first name, middle initial, and last name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23800" y="527040"/>
            <a:ext cx="7282080" cy="77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5720" y="458640"/>
            <a:ext cx="607356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WN-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Social Securi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a bond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WNRSHI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SHIP DESIG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Identifies whethe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er of a bond is a soldier or non-soldier and whether a co-owner or beneficiary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E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END OF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U, PY-, P2-, P5.  Amount of pa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for payment at the end of the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U, PY-, P1-, P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pay authorized for payment at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NM-E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NEX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AT END-OF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pay that w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 made at the end of next 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NEXT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pay that w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 made next mid-month unless changed or stoppe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SEQ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AUTHORIZATION SEQUENC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X, PX-, PY-, P1-, P2-, P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equential series of numbers assigned to pay authorizations issued by DFA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each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CID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ERSONNEL ADMINISTRATOR CENTER_IDENTIFIC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G, LG-.  Alphanumeric co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 to identify each Air Force/Army unit.  Equates to U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ID/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-TO-DATE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VE PAY LEAVE DAYS PAID/USED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  Save pay leave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or used to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-AUTH-NON-PAY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AUTHORIZATION, NON-PAY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P-.  Identifies the reas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ving zero filled pay authorization amou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CLAS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CLASS-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5-, P8-.  The type of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purpose for which establish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K, TK-.  A compute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reflects all creditable serve for pay purposes as authorized and computed IAW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pter 1, DODFM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62080" y="528480"/>
            <a:ext cx="625932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-DEDTN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TYPE,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9-.  The kinds of voluntary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oluntary reductions in gross pay to be a direct charge against an individual’s earning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ype of deduction from soldier’s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T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ENT TYPE, MILITAR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W, DW-.  Type of pay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and made to or on behalf of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D-E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END OF MONTH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H. Total amount paid during any 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f a twelve month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D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I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N.  Amount paid usually on the 15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 of any month during a twelve month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D-TO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G, HG-, RB, RB-,R5, R5-, R6, R6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7, R7-, R8, R8-, R9, R9-, 18, 18-. Total amount of a specific entitlement of military pa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to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CNTG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ERCENT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H, DH-.  The rate or proportion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ry hundred or the value (in hundreds) resulting from the division of any number by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e number with which compared.  This is also the monthly percentage of rental fair val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 for inadequate quar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V-D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SEPARATION, PREVIOUS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E, TE-, TY.  The date a soldier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any Dept of Defense Component was last separated from extended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EV-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PREVIO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D-.  Grade held by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ediately prior to his/her/her/her/her current or permanent gr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B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BROUGHT FORWARD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Cumulative balance brough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ward which is the unpaid pay and allowances due the soldier from the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DO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DATE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G, TG-, TJ, TJ-.  The date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entered on a prior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21200" y="528480"/>
            <a:ext cx="60156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DOE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DATE DOE INDICAT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TG.  Soldier has a prior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ed on active duty recorded 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EA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EXTENDED ACTIVE DUT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TY.  The date a soldier previous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ed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SVC-DE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MILITARY DEPAR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D, TD-, TE, TE-.  Militar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ment soldier’s prior service was 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VACY-ACT-FLA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VACY ACT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A.  To be used to identif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rd that has had a statement of dispute filed by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D-DAYS-GRN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EED DAYS 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Proceed days grante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S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ESS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A, MA-, MC, MC-, MH, MH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G, TG-, TJ, TJ-, TK, TK-, TT, TT-.  The date that data is processed through the syste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FNCY-PAY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FICIENCY PAY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0, 30-.  Indicates the kind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iciency Pay to which  a soldier is entit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ARR-DA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ECTED ARRIVAL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0.  The projected arrival of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at a given lo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DDLD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ECTED DATE OF DEPARTUR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ROM LAST DUTY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0.  The projected date on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vidual is scheduled to physically depart his/her last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PROJECTED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, AF, AF-,AL, AL-, A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-.  The projected year and month something will sto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XTN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PROJECTED EXT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S, TS-, 18, 18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ed number of months a soldier extends his/her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5600" y="388800"/>
            <a:ext cx="64807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AD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, ADEQUA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Expressions b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etent authority as to the suitability of government quar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ASG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, ASSIGN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Government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ion status of an individual and his/her dependents, as applic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DAY-AR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UARTER DAY ARR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The quarter of the da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arr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DAY-ST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UARTER DAY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0, 40-.  Quarter of the d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to an allowance star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DAY-ST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UARTER DAY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40-.  Quarter of the d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to an allowance star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CPNT-TYPE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RECIPIENT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C, AC-, AD, AD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, AF-, AH, AH-, AI, AI-, AL, AL-, AN, AN-, AS, AS-, AT, AT-.  Identifies the allot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ipient according to the type of address to be printed on the allotment check or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DJ-MOP-PREV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F READJUST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R MOP PREVIOUSLY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6-. 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djustment pay or mustering out pay previously paid on separation from ac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COMP-PNDG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PAY RECOMPUTATIO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Indicates separ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-computation is pe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TRY-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TRY GR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.  The grade at which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reenters the 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ND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UND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8-, P9-.  The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y returned to the soldier that was previously deducted from his/her pay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3200" y="388800"/>
            <a:ext cx="66988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ND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UN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Indicates the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s requested a refund of the amount repaid on an indebtedness which was later wa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ND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UND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8-, P9-.  Identifies the typ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und to the soldier based on the previous deduction from his/her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G-PAY-AUTH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AUTHORIZATION,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X, PY-.  The date pay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PAY HELD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HY-.  The date pay held from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released for disposi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LD-SPEC-PAY-H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RELEASED, SPECIFIC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HY-.  Amount of a specific typ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which is released for disposi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LS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RELEASE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D, HE, HF, HH,HS, HV, H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whether held pay has been relea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, 67, 67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, 68-.  Actual rent that a soldier pays.  Used for OHA calcul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-LEAS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LEAS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  The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soldier’s lea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-STAT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, 67, 67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, 68-.  The status of a soldier’s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SERV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SEUDO DATA USE IDENTIFIER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Used as a filler in posi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TRN-FD/HFP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RETURNED DESIGNATED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Self- explai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TRN-PD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RETURNED DESIGNATED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The date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urns to his/her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6720" y="458640"/>
            <a:ext cx="61984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LTNSH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AMILY RELATION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  General classe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relationships by blood, marriage, or operation of la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PT-SURVEY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PORT OF SURVE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G, DG-.  Report of surve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EL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 BONUS,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Identifies the law und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the soldier was paid or is to be paid a reenlistment bonus, based on soldier’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ion when applic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FAFC BONUS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Last prior reenlistment bon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for the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S, COUNTABL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The number of regul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-enlistments for which a regular reenlistment bonus has been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RCUPD-AM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UNT AFAFC REGULAR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US TO BE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The amount of unearned l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 reenlistment bonus to be collected as determined by DF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/SRB-TAX-XCLUSN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 TAX EXCLUS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, R7, R7-. 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 in a combat zone and his/her RRB installments are not taxable.  Soldier rece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 reenlistment bonus while combat zone exclusion was in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 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 BONUS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The type of reenlist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u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DNT-C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SIDENT OF COUN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H, MH-.  The foreign coun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a soldier has established as his/her legal residence or domicile.  This may be diffe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n home of 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DNT-NON-CONUS-S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SIDENT NON-CONUS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 MH, MH-.  Non-continental 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which a soldier has established as his/her legal residence or domicile.  May b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fferent than home of 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080" y="528480"/>
            <a:ext cx="671616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SUSPENSE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T, ST-.  Identifies condit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suspend a soldier’s Status Determinant because there is doubt about whether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’s military status is val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VEMENT REASON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0, SH, SH-.  The reason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reassignment from one permanent duty station to anot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-H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,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, HY-, PF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why a portion or all of a soldier’s pay was or is being 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-SUS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, REASON FOR SUSP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, DV, DV-.  Stateme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why collection of an indebtedness from an Army soldier should be suspen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TR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OP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The year, month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day of a soldier’s last day of chargeable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D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DESIGNATION NUMBERS (SDN), AIR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TV-.  Identifies enlisted loss actions from the 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 strength by various group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DESIGNATION NUMBERS (SDN)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N7.  Identifies officer loss actions from the Ac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 strength by various group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N-PAY-ADJ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PAY ADJU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Identifies action to be take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the FAO based upon a pay authorization or management notice in computing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justment of a soldier’s pay/pay due or establishment of a debt at the tim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TN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SEPARATION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V, SV-.  Identifies the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which an allotment is discontinued based upon a soldier’s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TLM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SET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, N7.  Identifies ac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ken or to be taken on a soldier’s unused leave balance or excess leave used bala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on separation with immediate reentry into military service or extension of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1:11:20Z</dcterms:created>
  <dc:creator>Soldier Support Institute</dc:creator>
  <dc:description/>
  <dc:language>en-US</dc:language>
  <cp:lastModifiedBy>Administrator</cp:lastModifiedBy>
  <cp:lastPrinted>2002-02-04T19:42:01Z</cp:lastPrinted>
  <dcterms:modified xsi:type="dcterms:W3CDTF">2005-03-07T17:13:06Z</dcterms:modified>
  <cp:revision>44</cp:revision>
  <dc:subject/>
  <dc:title>mmpa</dc:title>
</cp:coreProperties>
</file>